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wmf" ContentType="image/x-wmf"/>
  <Override PartName="/ppt/media/image20.wmf" ContentType="image/x-wmf"/>
  <Override PartName="/ppt/media/image21.wmf" ContentType="image/x-wmf"/>
  <Override PartName="/ppt/media/image18.png" ContentType="image/png"/>
  <Override PartName="/ppt/media/image19.wmf" ContentType="image/x-wmf"/>
  <Override PartName="/ppt/media/image17.wmf" ContentType="image/x-wmf"/>
  <Override PartName="/ppt/media/image16.wmf" ContentType="image/x-wmf"/>
  <Override PartName="/ppt/media/image10.wmf" ContentType="image/x-wmf"/>
  <Override PartName="/ppt/media/image29.wmf" ContentType="image/x-wmf"/>
  <Override PartName="/ppt/media/image11.wmf" ContentType="image/x-wmf"/>
  <Override PartName="/ppt/media/image28.wmf" ContentType="image/x-wmf"/>
  <Override PartName="/ppt/media/image6.wmf" ContentType="image/x-wmf"/>
  <Override PartName="/ppt/media/image36.wmf" ContentType="image/x-wmf"/>
  <Override PartName="/ppt/media/image12.wmf" ContentType="image/x-wmf"/>
  <Override PartName="/ppt/media/image30.wmf" ContentType="image/x-wmf"/>
  <Override PartName="/ppt/media/image27.png" ContentType="image/png"/>
  <Override PartName="/ppt/media/image7.wmf" ContentType="image/x-wmf"/>
  <Override PartName="/ppt/media/image3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3EE667-3BBA-447E-B7D3-6D8589854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6267CB-492C-47B2-BE20-2FC0C0F33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D3502B-4C83-4C80-A50D-DED9D1189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042F97-97A3-4BB6-9D52-6F37D99FC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B8085-C99C-4106-A9B0-1EDB6D4DD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EE1DA-EA66-4122-A9B8-65C214D25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680D5-91F6-4D15-A55F-73906DCDF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01164-9C21-4C21-B39E-C1D0CD90D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5DEC7-B881-47B2-989E-AC19DE9C8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113E2-0C1D-4DEB-97FE-9BA0C2A0F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7A5D9-CCED-45C3-A6B7-59F2B2C87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E60973-5EC6-4C04-8F6B-F232F4451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2AAB6-BF29-49A4-B8FE-9F31F9A36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A0235-343E-4E69-A3C3-B131EB35D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247F1-9B0D-4779-8509-ACCCA928D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D8AFD-C681-4290-888B-DEC404EB0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2D29D-D3FB-4C1B-AB3E-810178284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8D58B7-5462-4D0B-877F-161B3FD0D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3FBCF8-8ABE-49A4-A8A3-2BFA797A4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55E6B1-CE97-4159-9A98-B93A86F31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D9A39F-43D6-4246-BC15-A377FF132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70DC3-F0DB-4D52-9F4C-2DDA84946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16C482-D703-4C69-8D3E-E53833111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A658D0-82A7-4170-8E54-92B707345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1C9DB-43FD-45C2-981F-DA6D2206879E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BAA77-3B94-4CFD-9623-0F564D61708C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0.wmf"/><Relationship Id="rId6" Type="http://schemas.openxmlformats.org/officeDocument/2006/relationships/slideLayout" Target="../slideLayouts/slideLayout8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image" Target="../media/image29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4.wmf"/><Relationship Id="rId9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6.wmf"/><Relationship Id="rId7" Type="http://schemas.openxmlformats.org/officeDocument/2006/relationships/slideLayout" Target="../slideLayouts/slideLayout8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11280" y="1484280"/>
            <a:ext cx="85327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华文行楷"/>
                <a:ea typeface="华文行楷"/>
              </a:rPr>
              <a:t>数  学  建  模</a:t>
            </a:r>
            <a:endParaRPr b="1" lang="en-US" sz="8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186920" y="3860640"/>
            <a:ext cx="77058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              </a:t>
            </a:r>
            <a:r>
              <a:rPr b="0" lang="zh-CN" sz="4000" spc="-1" strike="noStrike">
                <a:solidFill>
                  <a:srgbClr val="ffffff"/>
                </a:solidFill>
                <a:latin typeface="Garamond"/>
              </a:rPr>
              <a:t>——</a:t>
            </a:r>
            <a:r>
              <a:rPr b="0" lang="zh-CN" sz="4000" spc="-1" strike="noStrike">
                <a:solidFill>
                  <a:srgbClr val="ffffff"/>
                </a:solidFill>
                <a:latin typeface="Garamond"/>
              </a:rPr>
              <a:t>从自然走向理性之路   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初等模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CA3FE-2D53-47B4-8A2E-7110B2E2CD20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数学建模</a:t>
            </a: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-302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0" y="333000"/>
            <a:ext cx="91440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首先要解决的问题是“</a:t>
            </a:r>
            <a:r>
              <a:rPr b="1" lang="zh-CN" sz="3200" spc="-1" strike="noStrike">
                <a:solidFill>
                  <a:srgbClr val="ffcc00"/>
                </a:solidFill>
                <a:latin typeface="华文仿宋"/>
                <a:ea typeface="华文仿宋"/>
              </a:rPr>
              <a:t>公平性</a:t>
            </a:r>
            <a:r>
              <a:rPr b="1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”的度量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先从两方分配席位的情形开始讨论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"/>
          <p:cNvSpPr/>
          <p:nvPr/>
        </p:nvSpPr>
        <p:spPr>
          <a:xfrm>
            <a:off x="1116000" y="20606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" y="1413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2276640"/>
            <a:ext cx="87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设</a:t>
            </a:r>
            <a:r>
              <a:rPr b="1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A</a:t>
            </a:r>
            <a:r>
              <a:rPr b="1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B</a:t>
            </a:r>
            <a:r>
              <a:rPr b="1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两方人数分别是</a:t>
            </a:r>
            <a:r>
              <a:rPr b="0" lang="zh-CN" sz="3200" spc="-1" strike="noStrike">
                <a:solidFill>
                  <a:srgbClr val="ffcc00"/>
                </a:solidFill>
                <a:latin typeface="华文仿宋"/>
                <a:ea typeface="华文仿宋"/>
              </a:rPr>
              <a:t> </a:t>
            </a:r>
            <a:r>
              <a:rPr b="1" i="1" lang="zh-CN" sz="3200" spc="-1" strike="noStrike">
                <a:solidFill>
                  <a:srgbClr val="ffcc00"/>
                </a:solidFill>
                <a:latin typeface="华文仿宋"/>
                <a:ea typeface="华文仿宋"/>
              </a:rPr>
              <a:t>p1,p2</a:t>
            </a:r>
            <a:r>
              <a:rPr b="1" i="1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, </a:t>
            </a:r>
            <a:r>
              <a:rPr b="1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分别占有</a:t>
            </a:r>
            <a:r>
              <a:rPr b="1" i="1" lang="zh-CN" sz="3200" spc="-1" strike="noStrike">
                <a:solidFill>
                  <a:srgbClr val="ffcc00"/>
                </a:solidFill>
                <a:latin typeface="华文仿宋"/>
                <a:ea typeface="华文仿宋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cc00"/>
                </a:solidFill>
                <a:latin typeface="华文仿宋"/>
                <a:ea typeface="华文仿宋"/>
              </a:rPr>
              <a:t> </a:t>
            </a:r>
            <a:r>
              <a:rPr b="1" i="1" lang="zh-CN" sz="3200" spc="-1" strike="noStrike">
                <a:solidFill>
                  <a:srgbClr val="ffcc00"/>
                </a:solidFill>
                <a:latin typeface="华文仿宋"/>
                <a:ea typeface="华文仿宋"/>
              </a:rPr>
              <a:t>n1,n2</a:t>
            </a:r>
            <a:r>
              <a:rPr b="1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个席位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9280" y="3789360"/>
            <a:ext cx="878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则两方每个席位所代表的人数分别是</a:t>
            </a:r>
            <a:r>
              <a:rPr b="1" lang="zh-CN" sz="3200" spc="-1" strike="noStrike">
                <a:solidFill>
                  <a:srgbClr val="ffcc00"/>
                </a:solidFill>
                <a:latin typeface="华文仿宋"/>
                <a:ea typeface="华文仿宋"/>
              </a:rPr>
              <a:t> </a:t>
            </a:r>
            <a:r>
              <a:rPr b="1" i="1" lang="zh-CN" sz="3200" spc="-1" strike="noStrike">
                <a:solidFill>
                  <a:srgbClr val="ffcc00"/>
                </a:solidFill>
                <a:latin typeface="华文仿宋"/>
                <a:ea typeface="华文仿宋"/>
              </a:rPr>
              <a:t>p1/n1 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cc00"/>
                </a:solidFill>
                <a:latin typeface="华文仿宋"/>
                <a:ea typeface="华文仿宋"/>
              </a:rPr>
              <a:t>         </a:t>
            </a:r>
            <a:r>
              <a:rPr b="1" i="1" lang="zh-CN" sz="3200" spc="-1" strike="noStrike">
                <a:solidFill>
                  <a:srgbClr val="ffcc00"/>
                </a:solidFill>
                <a:latin typeface="华文仿宋"/>
                <a:ea typeface="华文仿宋"/>
              </a:rPr>
              <a:t>p2/n2</a:t>
            </a:r>
            <a:r>
              <a:rPr b="1" i="1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初等模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FB2512-6921-4882-BBD2-688A2AA2E8B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数学建模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-37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0" y="404280"/>
            <a:ext cx="91440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所谓公平，即要求</a:t>
            </a:r>
            <a:r>
              <a:rPr b="1" i="1" lang="zh-CN" sz="3200" spc="-1" strike="noStrike">
                <a:solidFill>
                  <a:srgbClr val="ffcc00"/>
                </a:solidFill>
                <a:latin typeface="华文仿宋"/>
                <a:ea typeface="华文仿宋"/>
              </a:rPr>
              <a:t>p1/n1= p2/n2</a:t>
            </a:r>
            <a:r>
              <a:rPr b="0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，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  <a:ea typeface="华文仿宋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  <a:ea typeface="华文仿宋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  <a:ea typeface="华文仿宋"/>
              </a:rPr>
              <a:t>但这两个数不一定是整数，通常它们不相等，于是产生不公平，而这种“不公平”的程度可以用数值</a:t>
            </a:r>
            <a:r>
              <a:rPr b="0" lang="zh-CN" sz="3200" spc="-1" strike="noStrike">
                <a:solidFill>
                  <a:srgbClr val="ffcc00"/>
                </a:solidFill>
                <a:latin typeface="Garamond"/>
              </a:rPr>
              <a:t>| </a:t>
            </a:r>
            <a:r>
              <a:rPr b="1" i="1" lang="zh-CN" sz="3200" spc="-1" strike="noStrike">
                <a:solidFill>
                  <a:srgbClr val="ffcc00"/>
                </a:solidFill>
                <a:latin typeface="Times New Roman"/>
              </a:rPr>
              <a:t>p</a:t>
            </a:r>
            <a:r>
              <a:rPr b="1" i="1" lang="zh-CN" sz="3200" spc="-1" strike="noStrike" baseline="-25000">
                <a:solidFill>
                  <a:srgbClr val="ffcc00"/>
                </a:solidFill>
                <a:latin typeface="Times New Roman"/>
              </a:rPr>
              <a:t>1</a:t>
            </a:r>
            <a:r>
              <a:rPr b="1" i="1" lang="zh-CN" sz="3200" spc="-1" strike="noStrike">
                <a:solidFill>
                  <a:srgbClr val="ffcc00"/>
                </a:solidFill>
                <a:latin typeface="Times New Roman"/>
              </a:rPr>
              <a:t>/n</a:t>
            </a:r>
            <a:r>
              <a:rPr b="1" i="1" lang="zh-CN" sz="3200" spc="-1" strike="noStrike" baseline="-25000">
                <a:solidFill>
                  <a:srgbClr val="ffcc00"/>
                </a:solidFill>
                <a:latin typeface="Times New Roman"/>
              </a:rPr>
              <a:t>1 </a:t>
            </a:r>
            <a:r>
              <a:rPr b="1" i="1" lang="zh-CN" sz="3200" spc="-1" strike="noStrike">
                <a:solidFill>
                  <a:srgbClr val="ffcc00"/>
                </a:solidFill>
                <a:latin typeface="Times New Roman"/>
              </a:rPr>
              <a:t>- p</a:t>
            </a:r>
            <a:r>
              <a:rPr b="1" i="1" lang="zh-CN" sz="3200" spc="-1" strike="noStrike" baseline="-25000">
                <a:solidFill>
                  <a:srgbClr val="ffcc00"/>
                </a:solidFill>
                <a:latin typeface="Times New Roman"/>
              </a:rPr>
              <a:t>2</a:t>
            </a:r>
            <a:r>
              <a:rPr b="1" i="1" lang="zh-CN" sz="3200" spc="-1" strike="noStrike">
                <a:solidFill>
                  <a:srgbClr val="ffcc00"/>
                </a:solidFill>
                <a:latin typeface="Times New Roman"/>
              </a:rPr>
              <a:t>/n</a:t>
            </a:r>
            <a:r>
              <a:rPr b="1" i="1" lang="zh-CN" sz="3200" spc="-1" strike="noStrike" baseline="-25000">
                <a:solidFill>
                  <a:srgbClr val="ffcc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ffcc00"/>
                </a:solidFill>
                <a:latin typeface="Garamond"/>
              </a:rPr>
              <a:t> |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  <a:ea typeface="华文仿宋"/>
              </a:rPr>
              <a:t>来表示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 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它衡量的是“绝对不公平”程度，不是一个好的衡量标准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初等模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1A0CD3-2A7C-4D37-846D-A95E5E26685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数学建模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-453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0" y="475920"/>
            <a:ext cx="91440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         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与工业上通常用“相对误差”来度量工件精度相仿，我们引入相对不公平度量。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如果</a:t>
            </a:r>
            <a:r>
              <a:rPr b="1" i="1" lang="zh-CN" sz="2800" spc="-1" strike="noStrike">
                <a:solidFill>
                  <a:srgbClr val="ffcc00"/>
                </a:solidFill>
                <a:latin typeface="Times New Roman"/>
                <a:ea typeface="华文仿宋"/>
              </a:rPr>
              <a:t>p</a:t>
            </a:r>
            <a:r>
              <a:rPr b="1" i="1" lang="zh-CN" sz="2800" spc="-1" strike="noStrike" baseline="-25000">
                <a:solidFill>
                  <a:srgbClr val="ffcc00"/>
                </a:solidFill>
                <a:latin typeface="Times New Roman"/>
                <a:ea typeface="华文仿宋"/>
              </a:rPr>
              <a:t>1</a:t>
            </a:r>
            <a:r>
              <a:rPr b="1" i="1" lang="zh-CN" sz="2800" spc="-1" strike="noStrike">
                <a:solidFill>
                  <a:srgbClr val="ffcc00"/>
                </a:solidFill>
                <a:latin typeface="Times New Roman"/>
                <a:ea typeface="华文仿宋"/>
              </a:rPr>
              <a:t>/n</a:t>
            </a:r>
            <a:r>
              <a:rPr b="1" i="1" lang="zh-CN" sz="2800" spc="-1" strike="noStrike" baseline="-25000">
                <a:solidFill>
                  <a:srgbClr val="ffcc00"/>
                </a:solidFill>
                <a:latin typeface="Times New Roman"/>
                <a:ea typeface="华文仿宋"/>
              </a:rPr>
              <a:t>1</a:t>
            </a:r>
            <a:r>
              <a:rPr b="1" i="1" lang="zh-CN" sz="2800" spc="-1" strike="noStrike">
                <a:solidFill>
                  <a:srgbClr val="ffcc00"/>
                </a:solidFill>
                <a:latin typeface="Times New Roman"/>
                <a:ea typeface="华文仿宋"/>
              </a:rPr>
              <a:t>&gt; p</a:t>
            </a:r>
            <a:r>
              <a:rPr b="1" i="1" lang="zh-CN" sz="2800" spc="-1" strike="noStrike" baseline="-25000">
                <a:solidFill>
                  <a:srgbClr val="ffcc00"/>
                </a:solidFill>
                <a:latin typeface="Times New Roman"/>
                <a:ea typeface="华文仿宋"/>
              </a:rPr>
              <a:t>2</a:t>
            </a:r>
            <a:r>
              <a:rPr b="1" i="1" lang="zh-CN" sz="2800" spc="-1" strike="noStrike">
                <a:solidFill>
                  <a:srgbClr val="ffcc00"/>
                </a:solidFill>
                <a:latin typeface="Times New Roman"/>
                <a:ea typeface="华文仿宋"/>
              </a:rPr>
              <a:t>/n</a:t>
            </a:r>
            <a:r>
              <a:rPr b="1" i="1" lang="zh-CN" sz="2800" spc="-1" strike="noStrike" baseline="-25000">
                <a:solidFill>
                  <a:srgbClr val="ffcc00"/>
                </a:solidFill>
                <a:latin typeface="Times New Roman"/>
                <a:ea typeface="华文仿宋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，则此时对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A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方不公平，称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为对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A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的相对不公平值，记作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1" i="1" lang="zh-CN" sz="2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(n</a:t>
            </a:r>
            <a:r>
              <a:rPr b="1" i="1" lang="zh-CN" sz="2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 ,</a:t>
            </a:r>
            <a:r>
              <a:rPr b="1" i="1" lang="zh-CN" sz="28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i="1" lang="zh-CN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i="1" lang="zh-CN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2050920" y="2008080"/>
          <a:ext cx="4608720" cy="277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2008080"/>
                    <a:ext cx="4608720" cy="277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初等模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B9394F-08AB-4AFF-BE7B-8E144DBADD0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数学建模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302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9280" y="475920"/>
            <a:ext cx="896472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 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如果</a:t>
            </a:r>
            <a:r>
              <a:rPr b="1" i="1" lang="zh-CN" sz="2800" spc="-1" strike="noStrike">
                <a:solidFill>
                  <a:srgbClr val="ffcc00"/>
                </a:solidFill>
                <a:latin typeface="Times New Roman"/>
                <a:ea typeface="华文仿宋"/>
              </a:rPr>
              <a:t>p</a:t>
            </a:r>
            <a:r>
              <a:rPr b="1" i="1" lang="zh-CN" sz="2800" spc="-1" strike="noStrike" baseline="-25000">
                <a:solidFill>
                  <a:srgbClr val="ffcc00"/>
                </a:solidFill>
                <a:latin typeface="Times New Roman"/>
                <a:ea typeface="华文仿宋"/>
              </a:rPr>
              <a:t>1</a:t>
            </a:r>
            <a:r>
              <a:rPr b="1" i="1" lang="zh-CN" sz="2800" spc="-1" strike="noStrike">
                <a:solidFill>
                  <a:srgbClr val="ffcc00"/>
                </a:solidFill>
                <a:latin typeface="Times New Roman"/>
                <a:ea typeface="华文仿宋"/>
              </a:rPr>
              <a:t>/n</a:t>
            </a:r>
            <a:r>
              <a:rPr b="1" i="1" lang="zh-CN" sz="2800" spc="-1" strike="noStrike" baseline="-25000">
                <a:solidFill>
                  <a:srgbClr val="ffcc00"/>
                </a:solidFill>
                <a:latin typeface="Times New Roman"/>
                <a:ea typeface="华文仿宋"/>
              </a:rPr>
              <a:t>1</a:t>
            </a:r>
            <a:r>
              <a:rPr b="1" i="1" lang="zh-CN" sz="2800" spc="-1" strike="noStrike">
                <a:solidFill>
                  <a:srgbClr val="ffcc00"/>
                </a:solidFill>
                <a:latin typeface="Times New Roman"/>
                <a:ea typeface="华文仿宋"/>
              </a:rPr>
              <a:t>&lt; p</a:t>
            </a:r>
            <a:r>
              <a:rPr b="1" i="1" lang="zh-CN" sz="2800" spc="-1" strike="noStrike" baseline="-25000">
                <a:solidFill>
                  <a:srgbClr val="ffcc00"/>
                </a:solidFill>
                <a:latin typeface="Times New Roman"/>
                <a:ea typeface="华文仿宋"/>
              </a:rPr>
              <a:t>2</a:t>
            </a:r>
            <a:r>
              <a:rPr b="1" i="1" lang="zh-CN" sz="2800" spc="-1" strike="noStrike">
                <a:solidFill>
                  <a:srgbClr val="ffcc00"/>
                </a:solidFill>
                <a:latin typeface="Times New Roman"/>
                <a:ea typeface="华文仿宋"/>
              </a:rPr>
              <a:t>/n</a:t>
            </a:r>
            <a:r>
              <a:rPr b="1" i="1" lang="zh-CN" sz="2800" spc="-1" strike="noStrike" baseline="-25000">
                <a:solidFill>
                  <a:srgbClr val="ffcc00"/>
                </a:solidFill>
                <a:latin typeface="Times New Roman"/>
                <a:ea typeface="华文仿宋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，则此时对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B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方不公平，称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为对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B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的相对不公平值，记作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1" i="1" lang="zh-CN" sz="28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(n</a:t>
            </a:r>
            <a:r>
              <a:rPr b="1" i="1" lang="zh-CN" sz="2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 ,</a:t>
            </a:r>
            <a:r>
              <a:rPr b="1" i="1" lang="zh-CN" sz="28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i="1" lang="zh-CN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i="1" lang="zh-CN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2268360" y="1268280"/>
          <a:ext cx="41752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8360" y="1268280"/>
                    <a:ext cx="41752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初等模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CA6760-C66D-4AA9-847A-FD3F2CA732F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数学建模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-489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0" y="475920"/>
            <a:ext cx="8964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       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假设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A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、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B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两方已分别占有</a:t>
            </a: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i="1" lang="zh-CN" sz="2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 , n</a:t>
            </a:r>
            <a:r>
              <a:rPr b="1" i="1" lang="zh-CN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个席位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,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以下我们用相对不公平的概念来讨论，当总席位再增加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席时，应该给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A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方还是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B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方。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          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不妨设</a:t>
            </a: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zh-CN" sz="2800" spc="-1" strike="noStrike">
                <a:solidFill>
                  <a:srgbClr val="ffcc00"/>
                </a:solidFill>
                <a:latin typeface="Times New Roman"/>
                <a:ea typeface="华文仿宋"/>
              </a:rPr>
              <a:t>p</a:t>
            </a:r>
            <a:r>
              <a:rPr b="1" i="1" lang="zh-CN" sz="2800" spc="-1" strike="noStrike" baseline="-25000">
                <a:solidFill>
                  <a:srgbClr val="ffcc00"/>
                </a:solidFill>
                <a:latin typeface="Times New Roman"/>
                <a:ea typeface="华文仿宋"/>
              </a:rPr>
              <a:t>1</a:t>
            </a:r>
            <a:r>
              <a:rPr b="1" i="1" lang="zh-CN" sz="2800" spc="-1" strike="noStrike">
                <a:solidFill>
                  <a:srgbClr val="ffcc00"/>
                </a:solidFill>
                <a:latin typeface="Times New Roman"/>
                <a:ea typeface="华文仿宋"/>
              </a:rPr>
              <a:t>/n</a:t>
            </a:r>
            <a:r>
              <a:rPr b="1" i="1" lang="zh-CN" sz="2800" spc="-1" strike="noStrike" baseline="-25000">
                <a:solidFill>
                  <a:srgbClr val="ffcc00"/>
                </a:solidFill>
                <a:latin typeface="Times New Roman"/>
                <a:ea typeface="华文仿宋"/>
              </a:rPr>
              <a:t>1</a:t>
            </a:r>
            <a:r>
              <a:rPr b="1" i="1" lang="zh-CN" sz="2800" spc="-1" strike="noStrike">
                <a:solidFill>
                  <a:srgbClr val="ffcc00"/>
                </a:solidFill>
                <a:latin typeface="Times New Roman"/>
                <a:ea typeface="华文仿宋"/>
              </a:rPr>
              <a:t>&gt; p</a:t>
            </a:r>
            <a:r>
              <a:rPr b="1" i="1" lang="zh-CN" sz="2800" spc="-1" strike="noStrike" baseline="-25000">
                <a:solidFill>
                  <a:srgbClr val="ffcc00"/>
                </a:solidFill>
                <a:latin typeface="Times New Roman"/>
                <a:ea typeface="华文仿宋"/>
              </a:rPr>
              <a:t>2</a:t>
            </a:r>
            <a:r>
              <a:rPr b="1" i="1" lang="zh-CN" sz="2800" spc="-1" strike="noStrike">
                <a:solidFill>
                  <a:srgbClr val="ffcc00"/>
                </a:solidFill>
                <a:latin typeface="Times New Roman"/>
                <a:ea typeface="华文仿宋"/>
              </a:rPr>
              <a:t>/n</a:t>
            </a:r>
            <a:r>
              <a:rPr b="1" i="1" lang="zh-CN" sz="2800" spc="-1" strike="noStrike" baseline="-25000">
                <a:solidFill>
                  <a:srgbClr val="ffcc00"/>
                </a:solidFill>
                <a:latin typeface="Times New Roman"/>
                <a:ea typeface="华文仿宋"/>
              </a:rPr>
              <a:t>2</a:t>
            </a:r>
            <a:r>
              <a:rPr b="1" i="1" lang="zh-CN" sz="28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 </a:t>
            </a:r>
            <a:r>
              <a:rPr b="1" i="1" lang="zh-CN" sz="28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，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即此时对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A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方不公平，当再分配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个席位时，有以下三种情形要考虑：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）</a:t>
            </a: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 </a:t>
            </a:r>
            <a:r>
              <a:rPr b="1" i="1" lang="zh-CN" sz="2800" spc="-1" strike="noStrike">
                <a:solidFill>
                  <a:srgbClr val="ffcc00"/>
                </a:solidFill>
                <a:latin typeface="Times New Roman"/>
                <a:ea typeface="华文仿宋"/>
              </a:rPr>
              <a:t>p</a:t>
            </a:r>
            <a:r>
              <a:rPr b="1" i="1" lang="zh-CN" sz="2800" spc="-1" strike="noStrike" baseline="-25000">
                <a:solidFill>
                  <a:srgbClr val="ffcc00"/>
                </a:solidFill>
                <a:latin typeface="Times New Roman"/>
                <a:ea typeface="华文仿宋"/>
              </a:rPr>
              <a:t>1 </a:t>
            </a:r>
            <a:r>
              <a:rPr b="1" i="1" lang="zh-CN" sz="2800" spc="-1" strike="noStrike">
                <a:solidFill>
                  <a:srgbClr val="ffcc00"/>
                </a:solidFill>
                <a:latin typeface="Times New Roman"/>
                <a:ea typeface="华文仿宋"/>
              </a:rPr>
              <a:t>/</a:t>
            </a:r>
            <a:r>
              <a:rPr b="1" i="1" lang="zh-CN" sz="2800" spc="-1" strike="noStrike">
                <a:solidFill>
                  <a:srgbClr val="ffcc00"/>
                </a:solidFill>
                <a:latin typeface="Times New Roman"/>
                <a:ea typeface="华文仿宋"/>
              </a:rPr>
              <a:t>（</a:t>
            </a:r>
            <a:r>
              <a:rPr b="1" i="1" lang="zh-CN" sz="2800" spc="-1" strike="noStrike">
                <a:solidFill>
                  <a:srgbClr val="ffcc00"/>
                </a:solidFill>
                <a:latin typeface="Times New Roman"/>
                <a:ea typeface="华文仿宋"/>
              </a:rPr>
              <a:t>n</a:t>
            </a:r>
            <a:r>
              <a:rPr b="1" i="1" lang="zh-CN" sz="2800" spc="-1" strike="noStrike" baseline="-25000">
                <a:solidFill>
                  <a:srgbClr val="ffcc00"/>
                </a:solidFill>
                <a:latin typeface="Times New Roman"/>
                <a:ea typeface="华文仿宋"/>
              </a:rPr>
              <a:t>1</a:t>
            </a:r>
            <a:r>
              <a:rPr b="1" lang="zh-CN" sz="2800" spc="-1" strike="noStrike">
                <a:solidFill>
                  <a:srgbClr val="ffcc00"/>
                </a:solidFill>
                <a:latin typeface="Times New Roman"/>
                <a:ea typeface="华文仿宋"/>
              </a:rPr>
              <a:t>＋</a:t>
            </a:r>
            <a:r>
              <a:rPr b="1" lang="zh-CN" sz="2800" spc="-1" strike="noStrike">
                <a:solidFill>
                  <a:srgbClr val="ffcc00"/>
                </a:solidFill>
                <a:latin typeface="Times New Roman"/>
                <a:ea typeface="华文仿宋"/>
              </a:rPr>
              <a:t>1</a:t>
            </a:r>
            <a:r>
              <a:rPr b="1" i="1" lang="zh-CN" sz="2800" spc="-1" strike="noStrike">
                <a:solidFill>
                  <a:srgbClr val="ffcc00"/>
                </a:solidFill>
                <a:latin typeface="Times New Roman"/>
                <a:ea typeface="华文仿宋"/>
              </a:rPr>
              <a:t>）</a:t>
            </a:r>
            <a:r>
              <a:rPr b="1" i="1" lang="zh-CN" sz="2800" spc="-1" strike="noStrike">
                <a:solidFill>
                  <a:srgbClr val="ffcc00"/>
                </a:solidFill>
                <a:latin typeface="Times New Roman"/>
                <a:ea typeface="华文仿宋"/>
              </a:rPr>
              <a:t>&gt; p</a:t>
            </a:r>
            <a:r>
              <a:rPr b="1" i="1" lang="zh-CN" sz="2800" spc="-1" strike="noStrike" baseline="-25000">
                <a:solidFill>
                  <a:srgbClr val="ffcc00"/>
                </a:solidFill>
                <a:latin typeface="Times New Roman"/>
                <a:ea typeface="华文仿宋"/>
              </a:rPr>
              <a:t>2 </a:t>
            </a:r>
            <a:r>
              <a:rPr b="1" i="1" lang="zh-CN" sz="2800" spc="-1" strike="noStrike">
                <a:solidFill>
                  <a:srgbClr val="ffcc00"/>
                </a:solidFill>
                <a:latin typeface="Times New Roman"/>
                <a:ea typeface="华文仿宋"/>
              </a:rPr>
              <a:t>/ n</a:t>
            </a:r>
            <a:r>
              <a:rPr b="1" i="1" lang="zh-CN" sz="2800" spc="-1" strike="noStrike" baseline="-25000">
                <a:solidFill>
                  <a:srgbClr val="ffcc00"/>
                </a:solidFill>
                <a:latin typeface="Times New Roman"/>
                <a:ea typeface="华文仿宋"/>
              </a:rPr>
              <a:t>2</a:t>
            </a:r>
            <a:r>
              <a:rPr b="1" i="1" lang="zh-CN" sz="28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 </a:t>
            </a:r>
            <a:r>
              <a:rPr b="1" i="1" lang="zh-CN" sz="28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，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即新增一席分给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A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方后，仍对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A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方不公平，故这种情形下这一席位当然要分给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A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方。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初等模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7FED3-0EC2-4871-AB8D-0B5F83C404D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数学建模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-453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0" y="404640"/>
            <a:ext cx="91440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）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zh-CN" sz="3200" spc="-1" strike="noStrike">
                <a:solidFill>
                  <a:srgbClr val="ffcc00"/>
                </a:solidFill>
                <a:latin typeface="Times New Roman"/>
                <a:ea typeface="华文仿宋"/>
              </a:rPr>
              <a:t>p</a:t>
            </a:r>
            <a:r>
              <a:rPr b="1" i="1" lang="zh-CN" sz="3200" spc="-1" strike="noStrike" baseline="-25000">
                <a:solidFill>
                  <a:srgbClr val="ffcc00"/>
                </a:solidFill>
                <a:latin typeface="Times New Roman"/>
                <a:ea typeface="华文仿宋"/>
              </a:rPr>
              <a:t>1 </a:t>
            </a:r>
            <a:r>
              <a:rPr b="1" i="1" lang="zh-CN" sz="3200" spc="-1" strike="noStrike">
                <a:solidFill>
                  <a:srgbClr val="ffcc00"/>
                </a:solidFill>
                <a:latin typeface="Times New Roman"/>
                <a:ea typeface="华文仿宋"/>
              </a:rPr>
              <a:t>/</a:t>
            </a:r>
            <a:r>
              <a:rPr b="1" i="1" lang="zh-CN" sz="3200" spc="-1" strike="noStrike">
                <a:solidFill>
                  <a:srgbClr val="ffcc00"/>
                </a:solidFill>
                <a:latin typeface="Times New Roman"/>
                <a:ea typeface="华文仿宋"/>
              </a:rPr>
              <a:t>（</a:t>
            </a:r>
            <a:r>
              <a:rPr b="1" i="1" lang="zh-CN" sz="3200" spc="-1" strike="noStrike">
                <a:solidFill>
                  <a:srgbClr val="ffcc00"/>
                </a:solidFill>
                <a:latin typeface="Times New Roman"/>
                <a:ea typeface="华文仿宋"/>
              </a:rPr>
              <a:t>n</a:t>
            </a:r>
            <a:r>
              <a:rPr b="1" i="1" lang="zh-CN" sz="3200" spc="-1" strike="noStrike" baseline="-25000">
                <a:solidFill>
                  <a:srgbClr val="ffcc00"/>
                </a:solidFill>
                <a:latin typeface="Times New Roman"/>
                <a:ea typeface="华文仿宋"/>
              </a:rPr>
              <a:t>1</a:t>
            </a:r>
            <a:r>
              <a:rPr b="1" lang="zh-CN" sz="3200" spc="-1" strike="noStrike">
                <a:solidFill>
                  <a:srgbClr val="ffcc00"/>
                </a:solidFill>
                <a:latin typeface="Times New Roman"/>
                <a:ea typeface="华文仿宋"/>
              </a:rPr>
              <a:t>＋</a:t>
            </a:r>
            <a:r>
              <a:rPr b="1" lang="zh-CN" sz="3200" spc="-1" strike="noStrike">
                <a:solidFill>
                  <a:srgbClr val="ffcc00"/>
                </a:solidFill>
                <a:latin typeface="Times New Roman"/>
                <a:ea typeface="华文仿宋"/>
              </a:rPr>
              <a:t>1</a:t>
            </a:r>
            <a:r>
              <a:rPr b="1" i="1" lang="zh-CN" sz="3200" spc="-1" strike="noStrike">
                <a:solidFill>
                  <a:srgbClr val="ffcc00"/>
                </a:solidFill>
                <a:latin typeface="Times New Roman"/>
                <a:ea typeface="华文仿宋"/>
              </a:rPr>
              <a:t>）</a:t>
            </a:r>
            <a:r>
              <a:rPr b="1" i="1" lang="zh-CN" sz="3200" spc="-1" strike="noStrike">
                <a:solidFill>
                  <a:srgbClr val="ffcc00"/>
                </a:solidFill>
                <a:latin typeface="Times New Roman"/>
                <a:ea typeface="华文仿宋"/>
              </a:rPr>
              <a:t>&lt;  p</a:t>
            </a:r>
            <a:r>
              <a:rPr b="1" i="1" lang="zh-CN" sz="3200" spc="-1" strike="noStrike" baseline="-25000">
                <a:solidFill>
                  <a:srgbClr val="ffcc00"/>
                </a:solidFill>
                <a:latin typeface="Times New Roman"/>
                <a:ea typeface="华文仿宋"/>
              </a:rPr>
              <a:t>2 </a:t>
            </a:r>
            <a:r>
              <a:rPr b="1" i="1" lang="zh-CN" sz="3200" spc="-1" strike="noStrike">
                <a:solidFill>
                  <a:srgbClr val="ffcc00"/>
                </a:solidFill>
                <a:latin typeface="Times New Roman"/>
                <a:ea typeface="华文仿宋"/>
              </a:rPr>
              <a:t>/ n</a:t>
            </a:r>
            <a:r>
              <a:rPr b="1" i="1" lang="zh-CN" sz="3200" spc="-1" strike="noStrike" baseline="-25000">
                <a:solidFill>
                  <a:srgbClr val="ffcc00"/>
                </a:solidFill>
                <a:latin typeface="Times New Roman"/>
                <a:ea typeface="华文仿宋"/>
              </a:rPr>
              <a:t>2</a:t>
            </a:r>
            <a:r>
              <a:rPr b="1" i="1" lang="zh-CN" sz="32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 </a:t>
            </a:r>
            <a:r>
              <a:rPr b="1" i="1" lang="zh-CN" sz="32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，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即新增一席分给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A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方后，将对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B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方不公平，对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B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的相对不公平值为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） </a:t>
            </a:r>
            <a:r>
              <a:rPr b="1" i="1" lang="zh-CN" sz="3200" spc="-1" strike="noStrike">
                <a:solidFill>
                  <a:srgbClr val="ffcc00"/>
                </a:solidFill>
                <a:latin typeface="Times New Roman"/>
                <a:ea typeface="华文仿宋"/>
              </a:rPr>
              <a:t>p</a:t>
            </a:r>
            <a:r>
              <a:rPr b="1" i="1" lang="zh-CN" sz="3200" spc="-1" strike="noStrike" baseline="-25000">
                <a:solidFill>
                  <a:srgbClr val="ffcc00"/>
                </a:solidFill>
                <a:latin typeface="Times New Roman"/>
                <a:ea typeface="华文仿宋"/>
              </a:rPr>
              <a:t>1 </a:t>
            </a:r>
            <a:r>
              <a:rPr b="1" i="1" lang="zh-CN" sz="3200" spc="-1" strike="noStrike">
                <a:solidFill>
                  <a:srgbClr val="ffcc00"/>
                </a:solidFill>
                <a:latin typeface="Times New Roman"/>
                <a:ea typeface="华文仿宋"/>
              </a:rPr>
              <a:t>/ n</a:t>
            </a:r>
            <a:r>
              <a:rPr b="1" i="1" lang="zh-CN" sz="3200" spc="-1" strike="noStrike" baseline="-25000">
                <a:solidFill>
                  <a:srgbClr val="ffcc00"/>
                </a:solidFill>
                <a:latin typeface="Times New Roman"/>
                <a:ea typeface="华文仿宋"/>
              </a:rPr>
              <a:t>1</a:t>
            </a:r>
            <a:r>
              <a:rPr b="1" i="1" lang="zh-CN" sz="3200" spc="-1" strike="noStrike">
                <a:solidFill>
                  <a:srgbClr val="ffcc00"/>
                </a:solidFill>
                <a:latin typeface="Times New Roman"/>
                <a:ea typeface="华文仿宋"/>
              </a:rPr>
              <a:t> &gt;  p</a:t>
            </a:r>
            <a:r>
              <a:rPr b="1" i="1" lang="zh-CN" sz="3200" spc="-1" strike="noStrike" baseline="-25000">
                <a:solidFill>
                  <a:srgbClr val="ffcc00"/>
                </a:solidFill>
                <a:latin typeface="Times New Roman"/>
                <a:ea typeface="华文仿宋"/>
              </a:rPr>
              <a:t>2 </a:t>
            </a:r>
            <a:r>
              <a:rPr b="1" i="1" lang="zh-CN" sz="3200" spc="-1" strike="noStrike">
                <a:solidFill>
                  <a:srgbClr val="ffcc00"/>
                </a:solidFill>
                <a:latin typeface="Times New Roman"/>
                <a:ea typeface="华文仿宋"/>
              </a:rPr>
              <a:t>/</a:t>
            </a:r>
            <a:r>
              <a:rPr b="1" i="1" lang="zh-CN" sz="3200" spc="-1" strike="noStrike">
                <a:solidFill>
                  <a:srgbClr val="ffcc00"/>
                </a:solidFill>
                <a:latin typeface="Times New Roman"/>
                <a:ea typeface="华文仿宋"/>
              </a:rPr>
              <a:t>（</a:t>
            </a:r>
            <a:r>
              <a:rPr b="1" i="1" lang="zh-CN" sz="3200" spc="-1" strike="noStrike">
                <a:solidFill>
                  <a:srgbClr val="ffcc00"/>
                </a:solidFill>
                <a:latin typeface="Times New Roman"/>
                <a:ea typeface="华文仿宋"/>
              </a:rPr>
              <a:t>n</a:t>
            </a:r>
            <a:r>
              <a:rPr b="1" i="1" lang="zh-CN" sz="3200" spc="-1" strike="noStrike" baseline="-25000">
                <a:solidFill>
                  <a:srgbClr val="ffcc00"/>
                </a:solidFill>
                <a:latin typeface="Times New Roman"/>
                <a:ea typeface="华文仿宋"/>
              </a:rPr>
              <a:t>2</a:t>
            </a:r>
            <a:r>
              <a:rPr b="1" i="1" lang="zh-CN" sz="32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 </a:t>
            </a:r>
            <a:r>
              <a:rPr b="1" lang="zh-CN" sz="3200" spc="-1" strike="noStrike">
                <a:solidFill>
                  <a:srgbClr val="ffcc00"/>
                </a:solidFill>
                <a:latin typeface="Times New Roman"/>
                <a:ea typeface="华文仿宋"/>
              </a:rPr>
              <a:t>＋</a:t>
            </a:r>
            <a:r>
              <a:rPr b="1" lang="zh-CN" sz="3200" spc="-1" strike="noStrike">
                <a:solidFill>
                  <a:srgbClr val="ffcc00"/>
                </a:solidFill>
                <a:latin typeface="Times New Roman"/>
                <a:ea typeface="华文仿宋"/>
              </a:rPr>
              <a:t>1</a:t>
            </a:r>
            <a:r>
              <a:rPr b="1" lang="zh-CN" sz="3200" spc="-1" strike="noStrike">
                <a:solidFill>
                  <a:srgbClr val="ffcc00"/>
                </a:solidFill>
                <a:latin typeface="Times New Roman"/>
                <a:ea typeface="华文仿宋"/>
              </a:rPr>
              <a:t>）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,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新增一席给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B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方，必然使对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A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的不公平程度增加，对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A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的相对不公平值为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1763640" y="2133720"/>
          <a:ext cx="6264360" cy="151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2133720"/>
                    <a:ext cx="6264360" cy="15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初等模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9E7170-994F-4023-A5C9-6B6B3F4089C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数学建模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2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20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-453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0" y="404640"/>
            <a:ext cx="91440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        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除了第一种情形必然分给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A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以外，公平的席位分配方法应该使得相对不公平值尽量小，所以如果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1979640" y="692280"/>
          <a:ext cx="5329080" cy="158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692280"/>
                    <a:ext cx="5329080" cy="15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55560" y="4508640"/>
          <a:ext cx="8488440" cy="79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5560" y="4508640"/>
                    <a:ext cx="8488440" cy="7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初等模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4F01B1-B269-4281-B9CA-F4B4B347BDB3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数学建模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-302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47592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则这一席位应分配给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A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方；反之，应分给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B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方。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）式等价于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而对于第一种情形，（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）式显然也成立，故有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1012680" y="2205000"/>
          <a:ext cx="8131320" cy="144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2680" y="2205000"/>
                    <a:ext cx="8131320" cy="14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初等模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419100-A656-4D35-9D53-09088D7CF1D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数学建模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2000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-489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404640"/>
            <a:ext cx="8964720" cy="561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        </a:t>
            </a:r>
            <a:r>
              <a:rPr b="0" lang="zh-CN" sz="32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lang="zh-CN" sz="3600" spc="-1" strike="noStrike" u="sng">
                <a:solidFill>
                  <a:srgbClr val="ffffff"/>
                </a:solidFill>
                <a:uFillTx/>
                <a:latin typeface="Garamond"/>
                <a:ea typeface="黑体"/>
              </a:rPr>
              <a:t>结论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 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         </a:t>
            </a:r>
            <a:r>
              <a:rPr b="1" lang="zh-CN" sz="2800" spc="-1" strike="noStrike">
                <a:solidFill>
                  <a:srgbClr val="ffcc00"/>
                </a:solidFill>
                <a:latin typeface="华文仿宋"/>
                <a:ea typeface="华文仿宋"/>
              </a:rPr>
              <a:t>当 </a:t>
            </a:r>
            <a:r>
              <a:rPr b="1" lang="zh-CN" sz="2800" spc="-1" strike="noStrike">
                <a:solidFill>
                  <a:srgbClr val="ffcc00"/>
                </a:solidFill>
                <a:latin typeface="华文仿宋"/>
                <a:ea typeface="华文仿宋"/>
              </a:rPr>
              <a:t>(2) </a:t>
            </a:r>
            <a:r>
              <a:rPr b="1" lang="zh-CN" sz="2800" spc="-1" strike="noStrike">
                <a:solidFill>
                  <a:srgbClr val="ffcc00"/>
                </a:solidFill>
                <a:latin typeface="华文仿宋"/>
                <a:ea typeface="华文仿宋"/>
              </a:rPr>
              <a:t>式成立时，新增的 </a:t>
            </a:r>
            <a:r>
              <a:rPr b="1" lang="zh-CN" sz="2800" spc="-1" strike="noStrike">
                <a:solidFill>
                  <a:srgbClr val="ffcc00"/>
                </a:solidFill>
                <a:latin typeface="华文仿宋"/>
                <a:ea typeface="华文仿宋"/>
              </a:rPr>
              <a:t>1 </a:t>
            </a:r>
            <a:r>
              <a:rPr b="1" lang="zh-CN" sz="2800" spc="-1" strike="noStrike">
                <a:solidFill>
                  <a:srgbClr val="ffcc00"/>
                </a:solidFill>
                <a:latin typeface="华文仿宋"/>
                <a:ea typeface="华文仿宋"/>
              </a:rPr>
              <a:t>个席位应当分给 </a:t>
            </a:r>
            <a:r>
              <a:rPr b="1" lang="zh-CN" sz="2800" spc="-1" strike="noStrike">
                <a:solidFill>
                  <a:srgbClr val="ffcc00"/>
                </a:solidFill>
                <a:latin typeface="华文仿宋"/>
                <a:ea typeface="华文仿宋"/>
              </a:rPr>
              <a:t>A </a:t>
            </a:r>
            <a:r>
              <a:rPr b="1" lang="zh-CN" sz="2800" spc="-1" strike="noStrike">
                <a:solidFill>
                  <a:srgbClr val="ffcc00"/>
                </a:solidFill>
                <a:latin typeface="华文仿宋"/>
                <a:ea typeface="华文仿宋"/>
              </a:rPr>
              <a:t>方；反之，应分配给 </a:t>
            </a:r>
            <a:r>
              <a:rPr b="1" lang="zh-CN" sz="2800" spc="-1" strike="noStrike">
                <a:solidFill>
                  <a:srgbClr val="ffcc00"/>
                </a:solidFill>
                <a:latin typeface="华文仿宋"/>
                <a:ea typeface="华文仿宋"/>
              </a:rPr>
              <a:t>B </a:t>
            </a:r>
            <a:r>
              <a:rPr b="1" lang="zh-CN" sz="2800" spc="-1" strike="noStrike">
                <a:solidFill>
                  <a:srgbClr val="ffcc00"/>
                </a:solidFill>
                <a:latin typeface="华文仿宋"/>
                <a:ea typeface="华文仿宋"/>
              </a:rPr>
              <a:t>方。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        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将上述方法推广到 </a:t>
            </a:r>
            <a:r>
              <a:rPr b="1" i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m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方分配席位的情况。设第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i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方已获得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n</a:t>
            </a:r>
            <a:r>
              <a:rPr b="1" i="1" lang="zh-CN" sz="28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i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席位，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1547640" y="4365720"/>
          <a:ext cx="6912000" cy="165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4365720"/>
                    <a:ext cx="6912000" cy="165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初等模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B6EEE1-5A98-4050-A4E6-A72095988D47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数学建模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5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0" dur="10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20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-453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47592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          </a:t>
            </a:r>
            <a:r>
              <a:rPr b="1" lang="zh-CN" sz="2800" spc="-1" strike="noStrike">
                <a:solidFill>
                  <a:srgbClr val="ffcc00"/>
                </a:solidFill>
                <a:latin typeface="Garamond"/>
              </a:rPr>
              <a:t>当增加一个席位时，这一席位应分配给</a:t>
            </a:r>
            <a:r>
              <a:rPr b="1" lang="zh-CN" sz="2800" spc="-1" strike="noStrike">
                <a:solidFill>
                  <a:srgbClr val="ffcc00"/>
                </a:solidFill>
                <a:latin typeface="Times New Roman"/>
              </a:rPr>
              <a:t>Q</a:t>
            </a:r>
            <a:r>
              <a:rPr b="1" lang="zh-CN" sz="2800" spc="-1" strike="noStrike" baseline="-25000">
                <a:solidFill>
                  <a:srgbClr val="ffcc00"/>
                </a:solidFill>
                <a:latin typeface="Times New Roman"/>
              </a:rPr>
              <a:t>i</a:t>
            </a:r>
            <a:r>
              <a:rPr b="1" lang="zh-CN" sz="2800" spc="-1" strike="noStrike">
                <a:solidFill>
                  <a:srgbClr val="ffcc00"/>
                </a:solidFill>
                <a:latin typeface="Times New Roman"/>
              </a:rPr>
              <a:t> </a:t>
            </a:r>
            <a:r>
              <a:rPr b="1" lang="zh-CN" sz="28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1" lang="zh-CN" sz="2800" spc="-1" strike="noStrike">
                <a:solidFill>
                  <a:srgbClr val="ffcc00"/>
                </a:solidFill>
                <a:latin typeface="Garamond"/>
              </a:rPr>
              <a:t>值最大的一方，然后重新计算</a:t>
            </a:r>
            <a:r>
              <a:rPr b="1" lang="zh-CN" sz="2800" spc="-1" strike="noStrike">
                <a:solidFill>
                  <a:srgbClr val="ffcc00"/>
                </a:solidFill>
                <a:latin typeface="Times New Roman"/>
              </a:rPr>
              <a:t>Q</a:t>
            </a:r>
            <a:r>
              <a:rPr b="1" lang="zh-CN" sz="2800" spc="-1" strike="noStrike" baseline="-25000">
                <a:solidFill>
                  <a:srgbClr val="ffcc00"/>
                </a:solidFill>
                <a:latin typeface="Times New Roman"/>
              </a:rPr>
              <a:t>i</a:t>
            </a:r>
            <a:r>
              <a:rPr b="1" lang="zh-CN" sz="2800" spc="-1" strike="noStrike">
                <a:solidFill>
                  <a:srgbClr val="ffcc00"/>
                </a:solidFill>
                <a:latin typeface="Times New Roman"/>
              </a:rPr>
              <a:t> (i=1,2,</a:t>
            </a:r>
            <a:r>
              <a:rPr b="1" lang="zh-CN" sz="2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…m)</a:t>
            </a:r>
            <a:r>
              <a:rPr b="1" lang="zh-CN" sz="2800" spc="-1" strike="noStrike">
                <a:solidFill>
                  <a:srgbClr val="ffcc00"/>
                </a:solidFill>
                <a:latin typeface="Times New Roman"/>
              </a:rPr>
              <a:t> </a:t>
            </a:r>
            <a:r>
              <a:rPr b="1" lang="zh-CN" sz="2800" spc="-1" strike="noStrike">
                <a:solidFill>
                  <a:srgbClr val="ffcc00"/>
                </a:solidFill>
                <a:latin typeface="Garamond"/>
              </a:rPr>
              <a:t>，直到所有席位分配完为止。此方法称为</a:t>
            </a:r>
            <a:r>
              <a:rPr b="1" lang="zh-CN" sz="2800" spc="-1" strike="noStrike">
                <a:solidFill>
                  <a:srgbClr val="ffcc00"/>
                </a:solidFill>
                <a:latin typeface="Times New Roman"/>
              </a:rPr>
              <a:t>Q</a:t>
            </a:r>
            <a:r>
              <a:rPr b="1" lang="zh-CN" sz="2800" spc="-1" strike="noStrike">
                <a:solidFill>
                  <a:srgbClr val="ffcc00"/>
                </a:solidFill>
                <a:latin typeface="Garamond"/>
              </a:rPr>
              <a:t> </a:t>
            </a:r>
            <a:r>
              <a:rPr b="1" lang="zh-CN" sz="2800" spc="-1" strike="noStrike">
                <a:solidFill>
                  <a:srgbClr val="ffcc00"/>
                </a:solidFill>
                <a:latin typeface="Garamond"/>
              </a:rPr>
              <a:t>值方法。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     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          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应用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值方法于本例三方分配席位的情形，先按比例的整数部分分配，即甲、乙、丙系分别获得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10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、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6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、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个席位，然后按下表分配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初等模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C6DA10-5CD2-4809-AB43-BB96A739B46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数学建模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20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第二讲  初等模型</a:t>
            </a:r>
            <a:r>
              <a:rPr b="1" lang="zh-CN" sz="44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0" y="1773000"/>
            <a:ext cx="91440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zh-CN" sz="2800" spc="-1" strike="noStrike">
                <a:solidFill>
                  <a:srgbClr val="ffcc00"/>
                </a:solidFill>
                <a:latin typeface="Garamond"/>
              </a:rPr>
              <a:t>【主要内容】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介绍几个初等模型：椅子问题、席位分配问题、行走步长问题、雨中行走问题、实物交换模型。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1" lang="zh-CN" sz="2800" spc="-1" strike="noStrike">
                <a:solidFill>
                  <a:srgbClr val="ffcc00"/>
                </a:solidFill>
                <a:latin typeface="Garamond"/>
              </a:rPr>
              <a:t>【主要目的】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体会数学建模的形式多样性与方法多样性，了解建模思想，着重理解由现实问题向数学问题的转化过程。   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初等模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190287-4957-40E6-A54F-CFDD841AA54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数学建模</a:t>
            </a: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-489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0" y="404640"/>
            <a:ext cx="9144000" cy="561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Q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值方法席位分配表（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21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个席位）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        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结果是丙系获得了最后分配的一个席位。本模型的关键是给出了一个为各方都能接受的合理的“公平性”度量，提出了“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Q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值方法”，并且该方法具有很强的可操作性。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900000" y="1268280"/>
          <a:ext cx="7775640" cy="1606680"/>
        </p:xfrm>
        <a:graphic>
          <a:graphicData uri="http://schemas.openxmlformats.org/drawingml/2006/table">
            <a:tbl>
              <a:tblPr/>
              <a:tblGrid>
                <a:gridCol w="1457280"/>
                <a:gridCol w="6318360"/>
              </a:tblGrid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甲系         乙系        丙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2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 </a:t>
                      </a:r>
                      <a:r>
                        <a:rPr b="1" lang="zh-CN" sz="2800" spc="-1" strike="noStrike">
                          <a:solidFill>
                            <a:srgbClr val="ffcc00"/>
                          </a:solidFill>
                          <a:latin typeface="华文仿宋"/>
                          <a:ea typeface="华文仿宋"/>
                        </a:rPr>
                        <a:t>96.4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（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20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）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94.5        96.3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2" name=""/>
          <p:cNvSpPr/>
          <p:nvPr/>
        </p:nvSpPr>
        <p:spPr>
          <a:xfrm>
            <a:off x="2484360" y="1916280"/>
            <a:ext cx="6120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627280" y="2349360"/>
            <a:ext cx="5545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340000" y="2276640"/>
            <a:ext cx="63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80.4         94.5      </a:t>
            </a:r>
            <a:r>
              <a:rPr b="1" lang="zh-CN" sz="2800" spc="-1" strike="noStrike">
                <a:solidFill>
                  <a:srgbClr val="ffcc00"/>
                </a:solidFill>
                <a:latin typeface="华文仿宋"/>
                <a:ea typeface="华文仿宋"/>
              </a:rPr>
              <a:t>96.3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21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初等模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D19336-1DC3-4702-86E9-2359433D921B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数学建模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9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2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4" dur="1000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-489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0" y="475920"/>
            <a:ext cx="91440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         </a:t>
            </a:r>
            <a:r>
              <a:rPr b="1" lang="zh-CN" sz="4400" spc="-1" strike="noStrike">
                <a:solidFill>
                  <a:srgbClr val="ffcc00"/>
                </a:solidFill>
                <a:latin typeface="Garamond"/>
                <a:ea typeface="华文行楷"/>
              </a:rPr>
              <a:t>行走步长问题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Garamond"/>
                <a:ea typeface="华文仿宋"/>
              </a:rPr>
              <a:t>       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Garamond"/>
                <a:ea typeface="华文仿宋"/>
              </a:rPr>
              <a:t>         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华文仿宋"/>
                <a:ea typeface="华文仿宋"/>
              </a:rPr>
              <a:t>问题</a:t>
            </a:r>
            <a:r>
              <a:rPr b="1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人在匀速行走时步长多大最省劲？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   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         </a:t>
            </a:r>
            <a:r>
              <a:rPr b="1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设人的体重为</a:t>
            </a:r>
            <a:r>
              <a:rPr b="1" i="1" lang="zh-CN" sz="3200" spc="-1" strike="noStrike">
                <a:solidFill>
                  <a:srgbClr val="ffcc00"/>
                </a:solidFill>
                <a:latin typeface="Times New Roman"/>
                <a:ea typeface="华文仿宋"/>
              </a:rPr>
              <a:t>M</a:t>
            </a:r>
            <a:r>
              <a:rPr b="1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 </a:t>
            </a:r>
            <a:r>
              <a:rPr b="1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，腿重为</a:t>
            </a:r>
            <a:r>
              <a:rPr b="1" i="1" lang="zh-CN" sz="3200" spc="-1" strike="noStrike">
                <a:solidFill>
                  <a:srgbClr val="ffcc00"/>
                </a:solidFill>
                <a:latin typeface="Times New Roman"/>
                <a:ea typeface="华文仿宋"/>
              </a:rPr>
              <a:t>m</a:t>
            </a:r>
            <a:r>
              <a:rPr b="1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 </a:t>
            </a:r>
            <a:r>
              <a:rPr b="1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，腿长为</a:t>
            </a:r>
            <a:r>
              <a:rPr b="1" i="1" lang="zh-CN" sz="3200" spc="-1" strike="noStrike">
                <a:solidFill>
                  <a:srgbClr val="ffcc00"/>
                </a:solidFill>
                <a:latin typeface="Times New Roman"/>
                <a:ea typeface="华文仿宋"/>
              </a:rPr>
              <a:t>l</a:t>
            </a:r>
            <a:r>
              <a:rPr b="1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 </a:t>
            </a:r>
            <a:r>
              <a:rPr b="1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，速度为</a:t>
            </a:r>
            <a:r>
              <a:rPr b="1" i="1" lang="zh-CN" sz="3200" spc="-1" strike="noStrike">
                <a:solidFill>
                  <a:srgbClr val="ffcc00"/>
                </a:solidFill>
                <a:latin typeface="华文仿宋"/>
                <a:ea typeface="华文仿宋"/>
              </a:rPr>
              <a:t>v</a:t>
            </a:r>
            <a:r>
              <a:rPr b="1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 </a:t>
            </a:r>
            <a:r>
              <a:rPr b="1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，单位时间步数为</a:t>
            </a:r>
            <a:r>
              <a:rPr b="1" i="1" lang="zh-CN" sz="3200" spc="-1" strike="noStrike">
                <a:solidFill>
                  <a:srgbClr val="ffcc00"/>
                </a:solidFill>
                <a:latin typeface="华文仿宋"/>
                <a:ea typeface="华文仿宋"/>
              </a:rPr>
              <a:t>n</a:t>
            </a:r>
            <a:r>
              <a:rPr b="1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 </a:t>
            </a:r>
            <a:r>
              <a:rPr b="1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，步长为</a:t>
            </a:r>
            <a:r>
              <a:rPr b="1" i="1" lang="zh-CN" sz="3200" spc="-1" strike="noStrike">
                <a:solidFill>
                  <a:srgbClr val="ffcc00"/>
                </a:solidFill>
                <a:latin typeface="华文仿宋"/>
                <a:ea typeface="华文仿宋"/>
              </a:rPr>
              <a:t>x</a:t>
            </a:r>
            <a:r>
              <a:rPr b="1" lang="zh-CN" sz="3200" spc="-1" strike="noStrike">
                <a:solidFill>
                  <a:srgbClr val="ffcc00"/>
                </a:solidFill>
                <a:latin typeface="华文仿宋"/>
                <a:ea typeface="华文仿宋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华文仿宋"/>
                <a:ea typeface="华文仿宋"/>
              </a:rPr>
              <a:t>（</a:t>
            </a:r>
            <a:r>
              <a:rPr b="1" i="1" lang="zh-CN" sz="3200" spc="-1" strike="noStrike">
                <a:solidFill>
                  <a:srgbClr val="ffcc00"/>
                </a:solidFill>
                <a:latin typeface="华文仿宋"/>
                <a:ea typeface="华文仿宋"/>
              </a:rPr>
              <a:t>v</a:t>
            </a:r>
            <a:r>
              <a:rPr b="1" lang="zh-CN" sz="3200" spc="-1" strike="noStrike">
                <a:solidFill>
                  <a:srgbClr val="ffcc00"/>
                </a:solidFill>
                <a:latin typeface="华文仿宋"/>
                <a:ea typeface="华文仿宋"/>
              </a:rPr>
              <a:t> = </a:t>
            </a:r>
            <a:r>
              <a:rPr b="1" i="1" lang="zh-CN" sz="3200" spc="-1" strike="noStrike">
                <a:solidFill>
                  <a:srgbClr val="ffcc00"/>
                </a:solidFill>
                <a:latin typeface="华文仿宋"/>
                <a:ea typeface="华文仿宋"/>
              </a:rPr>
              <a:t>n</a:t>
            </a:r>
            <a:r>
              <a:rPr b="1" lang="zh-CN" sz="3200" spc="-1" strike="noStrike">
                <a:solidFill>
                  <a:srgbClr val="ffcc00"/>
                </a:solidFill>
                <a:latin typeface="华文仿宋"/>
                <a:ea typeface="华文仿宋"/>
              </a:rPr>
              <a:t> </a:t>
            </a:r>
            <a:r>
              <a:rPr b="1" i="1" lang="zh-CN" sz="3200" spc="-1" strike="noStrike">
                <a:solidFill>
                  <a:srgbClr val="ffcc00"/>
                </a:solidFill>
                <a:latin typeface="华文仿宋"/>
                <a:ea typeface="华文仿宋"/>
              </a:rPr>
              <a:t>x</a:t>
            </a:r>
            <a:r>
              <a:rPr b="1" lang="zh-CN" sz="3200" spc="-1" strike="noStrike">
                <a:solidFill>
                  <a:srgbClr val="ffcc00"/>
                </a:solidFill>
                <a:latin typeface="华文仿宋"/>
                <a:ea typeface="华文仿宋"/>
              </a:rPr>
              <a:t>  </a:t>
            </a:r>
            <a:r>
              <a:rPr b="1" lang="zh-CN" sz="3200" spc="-1" strike="noStrike">
                <a:solidFill>
                  <a:srgbClr val="ffcc00"/>
                </a:solidFill>
                <a:latin typeface="华文仿宋"/>
                <a:ea typeface="华文仿宋"/>
              </a:rPr>
              <a:t>）</a:t>
            </a:r>
            <a:r>
              <a:rPr b="1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。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初等模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713641-DDE7-40E2-B093-9754E06D46B6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数学建模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10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2000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-489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720800" y="476280"/>
            <a:ext cx="570240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初等模型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F94DED-D082-45EA-996F-4E221DEEDA13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数学建模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-489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47592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  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人行走时所做的功转化成两个部分：一部分抬高人体重心，转化为势能，另一部分转化为两腿运动的动能 （上身运动的动能是常数，与步长无关，故不考虑）。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 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下面分别计算之。</a:t>
            </a: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 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1. 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重心升高所需的能量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 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记一步中重心升高为</a:t>
            </a:r>
            <a:r>
              <a:rPr b="1" lang="el-GR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δ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 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，则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初等模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9A7B03-F2CD-4BFC-8679-043B14452245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数学建模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1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1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-489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404640"/>
            <a:ext cx="8229600" cy="561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1979640" y="692280"/>
          <a:ext cx="4753080" cy="468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692280"/>
                    <a:ext cx="4753080" cy="46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初等模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7823CC-8ED8-4646-9854-771C180F0ABE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数学建模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-489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0" y="404640"/>
            <a:ext cx="9144000" cy="561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于是，单位时间重心升高所需做功为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2. </a:t>
            </a:r>
            <a:r>
              <a:rPr b="1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腿运动所需的能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将人行走时腿的运动视为均匀直杆（腿）绕腰部的转动，则在单位时间内所需动能为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826920" y="1197000"/>
          <a:ext cx="7632720" cy="136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197000"/>
                    <a:ext cx="7632720" cy="13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908000" y="4508640"/>
          <a:ext cx="4176720" cy="1225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8000" y="4508640"/>
                    <a:ext cx="4176720" cy="122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初等模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517E23-D8AB-4840-BD10-1B4AFA74592A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数学建模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1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2000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1000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-489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0" y="475920"/>
            <a:ext cx="91440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其中转动惯量         ，角速度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                     ，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  <a:ea typeface="华文仿宋"/>
              </a:rPr>
              <a:t>故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单位时间所做的功为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2538360" y="351000"/>
          <a:ext cx="1692360" cy="111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38360" y="351000"/>
                    <a:ext cx="1692360" cy="11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6012000" y="476280"/>
          <a:ext cx="2160360" cy="936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12000" y="476280"/>
                    <a:ext cx="2160360" cy="93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971640" y="1628640"/>
          <a:ext cx="7056360" cy="1440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71640" y="1628640"/>
                    <a:ext cx="7056360" cy="14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971640" y="4149720"/>
          <a:ext cx="7200720" cy="1224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71640" y="4149720"/>
                    <a:ext cx="7200720" cy="12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初等模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F045B3-406B-4E65-813D-1680E1FF1F33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数学建模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4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9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20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0" y="404280"/>
            <a:ext cx="91440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          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令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解得</a:t>
            </a: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为检验此结果的合理性，带入具体数值，假定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                    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M/m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=4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=1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米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,   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=9.8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米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秒</a:t>
            </a:r>
            <a:r>
              <a:rPr b="1" lang="zh-CN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计算得到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             </a:t>
            </a:r>
            <a:r>
              <a:rPr b="1" i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n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=5.4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步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/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秒</a:t>
            </a: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                         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0" y="404280"/>
            <a:ext cx="9144000" cy="5977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1" name=""/>
          <p:cNvGraphicFramePr/>
          <p:nvPr/>
        </p:nvGraphicFramePr>
        <p:xfrm>
          <a:off x="3492360" y="549360"/>
          <a:ext cx="1152720" cy="871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92360" y="549360"/>
                    <a:ext cx="115272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2411280" y="1700280"/>
          <a:ext cx="4465800" cy="1297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411280" y="1700280"/>
                    <a:ext cx="4465800" cy="12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初等模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F18CFD-7135-4420-A764-249F4A0AD6EB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数学建模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20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1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6" dur="20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1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6" dur="1000"/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1" dur="2000"/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6" dur="2000"/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1" dur="2000"/>
                                        <p:tgtEl>
                                          <p:spTgt spid="2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0" y="333360"/>
            <a:ext cx="914400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上述结果与实际情形差异较大，有人提出将模型改进为：将腿的质量集中在脚部，行走看作是脚的直线运动，则动能部分改变为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这时的最优解为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带入具体数值，得      </a:t>
            </a:r>
            <a:r>
              <a:rPr b="1" i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n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=3.1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步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/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秒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                 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3059280" y="1773360"/>
          <a:ext cx="3025440" cy="118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59280" y="1773360"/>
                    <a:ext cx="3025440" cy="118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3492360" y="3500280"/>
          <a:ext cx="2448000" cy="1081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92360" y="3500280"/>
                    <a:ext cx="2448000" cy="10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初等模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67928C-5F14-43C5-BC35-988819EE0B3A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数学建模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8" dur="10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3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20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8" dur="2000"/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79280" y="404280"/>
            <a:ext cx="896472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结果与实际较接近，但模型改进的理由并不充分，合理性有待考证。也有人认为上面两个模型过于简化了，人在行走时腿的运动不能近似为匀速运动，每一步都有一个从静止到运动再到静止的加速与减速过程，而在这个变速过程中所多消耗的能量也许不是一个可忽略的量。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初等模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CA2E32-DE9A-4AB6-9096-5D82681F222D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数学建模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5" dur="10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-489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0" y="475920"/>
            <a:ext cx="91440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1" lang="zh-CN" sz="4400" spc="-1" strike="noStrike">
                <a:solidFill>
                  <a:srgbClr val="ffcc00"/>
                </a:solidFill>
                <a:latin typeface="Garamond"/>
                <a:ea typeface="华文行楷"/>
              </a:rPr>
              <a:t>椅子问题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Garamond"/>
                <a:ea typeface="华文仿宋"/>
              </a:rPr>
              <a:t>问题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  <a:ea typeface="华文仿宋"/>
              </a:rPr>
              <a:t>  四条腿长度相等的方椅子放在不平的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  <a:ea typeface="华文仿宋"/>
              </a:rPr>
              <a:t>面上，四条腿能否同时着地？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设椅子中心不动，四条腿的下端用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A,B,C,D 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表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示，中心点为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O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。用对角线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AC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与</a:t>
            </a:r>
            <a:r>
              <a:rPr b="1" i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x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 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轴的夹角 </a:t>
            </a:r>
            <a:r>
              <a:rPr b="1" i="1" lang="el-GR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θ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 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来表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示椅子的位置。四点距地面的距离分别设为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a,b,c,d,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它们都是旋转角</a:t>
            </a:r>
            <a:r>
              <a:rPr b="1" i="1" lang="el-GR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θ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 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的函数。       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初等模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ADD9BB-EF7D-4FA6-83B0-57897D7061F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数学建模</a:t>
            </a: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300"/>
                            </p:stCondLst>
                            <p:childTnLst>
                              <p:par>
                                <p:cTn id="45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300"/>
                            </p:stCondLst>
                            <p:childTnLst>
                              <p:par>
                                <p:cTn id="54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4900"/>
                            </p:stCondLst>
                            <p:childTnLst>
                              <p:par>
                                <p:cTn id="58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7400"/>
                            </p:stCondLst>
                            <p:childTnLst>
                              <p:par>
                                <p:cTn id="62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50560" y="404640"/>
            <a:ext cx="87138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Garamond"/>
                <a:ea typeface="华文行楷"/>
              </a:rPr>
              <a:t>雨中行走问题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ffff"/>
                </a:solidFill>
                <a:uFillTx/>
                <a:latin typeface="华文仿宋"/>
                <a:ea typeface="华文仿宋"/>
              </a:rPr>
              <a:t>问题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考虑人在雨中沿一直线行走，雨速已知，问人行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走的速度多大才能使淋雨量最小？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设人行走速度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(U,0,0) (U&gt;0)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，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雨速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(Vx, Vy, Vz)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，行走距离为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S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，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将人视为长方体，前、侧、顶的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面积之比为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1:L:T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6227640" y="3141720"/>
            <a:ext cx="1944720" cy="295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初等模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0CD27E-9921-4775-8A40-936ED6D0243E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数学建模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1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1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8" dur="10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3" dur="1000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8" dur="1000"/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2200"/>
                            </p:stCondLst>
                            <p:childTnLst>
                              <p:par>
                                <p:cTn id="710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2" dur="1000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4800"/>
                            </p:stCondLst>
                            <p:childTnLst>
                              <p:par>
                                <p:cTn id="714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1000"/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fill="hold">
                            <p:stCondLst>
                              <p:cond delay="7100"/>
                            </p:stCondLst>
                            <p:childTnLst>
                              <p:par>
                                <p:cTn id="718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0" dur="1000"/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5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0" y="404640"/>
            <a:ext cx="91440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单位时间淋雨量为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{|U-Vx|, |0-Vy|, |0-Vz|}·{1, L , T}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＝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| U-Vx | + |Vy|·L + |Vz|·T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＝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| U-Vx | + A      (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其中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A = |Vy|·L + |Vz|·T)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总淋雨量为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        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R(U)=S/U·(|U-Vx| + A )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初等模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D531B6-A1DB-4A28-A016-5CB9D93D7E10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数学建模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2" dur="10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7" dur="20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2" dur="10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7" dur="1000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2" dur="2000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7" dur="1000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0" y="475920"/>
            <a:ext cx="91440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     </a:t>
            </a:r>
            <a:r>
              <a:rPr b="1" lang="zh-CN" sz="3000" spc="-1" strike="noStrike">
                <a:solidFill>
                  <a:srgbClr val="ffffff"/>
                </a:solidFill>
                <a:latin typeface="华文仿宋"/>
                <a:ea typeface="华文仿宋"/>
              </a:rPr>
              <a:t>因此，雨中行走问题抽象成数学问题：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    </a:t>
            </a:r>
            <a:r>
              <a:rPr b="1" lang="zh-CN" sz="3000" spc="-1" strike="noStrike">
                <a:solidFill>
                  <a:srgbClr val="ffffff"/>
                </a:solidFill>
                <a:latin typeface="华文仿宋"/>
                <a:ea typeface="华文仿宋"/>
              </a:rPr>
              <a:t>已知</a:t>
            </a:r>
            <a:r>
              <a:rPr b="1" lang="zh-CN" sz="3000" spc="-1" strike="noStrike">
                <a:solidFill>
                  <a:srgbClr val="ffffff"/>
                </a:solidFill>
                <a:latin typeface="华文仿宋"/>
                <a:ea typeface="华文仿宋"/>
              </a:rPr>
              <a:t>S , Vx ,A, </a:t>
            </a:r>
            <a:r>
              <a:rPr b="1" lang="zh-CN" sz="3000" spc="-1" strike="noStrike">
                <a:solidFill>
                  <a:srgbClr val="ffffff"/>
                </a:solidFill>
                <a:latin typeface="华文仿宋"/>
                <a:ea typeface="华文仿宋"/>
              </a:rPr>
              <a:t>求</a:t>
            </a:r>
            <a:r>
              <a:rPr b="1" lang="zh-CN" sz="3000" spc="-1" strike="noStrike">
                <a:solidFill>
                  <a:srgbClr val="ffffff"/>
                </a:solidFill>
                <a:latin typeface="华文仿宋"/>
                <a:ea typeface="华文仿宋"/>
              </a:rPr>
              <a:t>U</a:t>
            </a:r>
            <a:r>
              <a:rPr b="1" lang="zh-CN" sz="3000" spc="-1" strike="noStrike">
                <a:solidFill>
                  <a:srgbClr val="ffffff"/>
                </a:solidFill>
                <a:latin typeface="华文仿宋"/>
                <a:ea typeface="华文仿宋"/>
              </a:rPr>
              <a:t>为何值时</a:t>
            </a:r>
            <a:r>
              <a:rPr b="1" lang="zh-CN" sz="3000" spc="-1" strike="noStrike">
                <a:solidFill>
                  <a:srgbClr val="ffffff"/>
                </a:solidFill>
                <a:latin typeface="华文仿宋"/>
                <a:ea typeface="华文仿宋"/>
              </a:rPr>
              <a:t>R(U)</a:t>
            </a:r>
            <a:r>
              <a:rPr b="1" lang="zh-CN" sz="3000" spc="-1" strike="noStrike">
                <a:solidFill>
                  <a:srgbClr val="ffffff"/>
                </a:solidFill>
                <a:latin typeface="华文仿宋"/>
                <a:ea typeface="华文仿宋"/>
              </a:rPr>
              <a:t>达最小值？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    </a:t>
            </a:r>
            <a:r>
              <a:rPr b="1" lang="zh-CN" sz="3000" spc="-1" strike="noStrike">
                <a:solidFill>
                  <a:srgbClr val="ffffff"/>
                </a:solidFill>
                <a:latin typeface="华文仿宋"/>
                <a:ea typeface="华文仿宋"/>
              </a:rPr>
              <a:t>下面分几种情况讨论。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   </a:t>
            </a:r>
            <a:r>
              <a:rPr b="1" lang="zh-CN" sz="3000" spc="-1" strike="noStrike">
                <a:solidFill>
                  <a:srgbClr val="ffffff"/>
                </a:solidFill>
                <a:latin typeface="华文仿宋"/>
                <a:ea typeface="华文仿宋"/>
              </a:rPr>
              <a:t>（</a:t>
            </a:r>
            <a:r>
              <a:rPr b="1" lang="zh-CN" sz="3000" spc="-1" strike="noStrike">
                <a:solidFill>
                  <a:srgbClr val="ffffff"/>
                </a:solidFill>
                <a:latin typeface="华文仿宋"/>
                <a:ea typeface="华文仿宋"/>
              </a:rPr>
              <a:t>1</a:t>
            </a:r>
            <a:r>
              <a:rPr b="1" lang="zh-CN" sz="3000" spc="-1" strike="noStrike">
                <a:solidFill>
                  <a:srgbClr val="ffffff"/>
                </a:solidFill>
                <a:latin typeface="华文仿宋"/>
                <a:ea typeface="华文仿宋"/>
              </a:rPr>
              <a:t>）</a:t>
            </a:r>
            <a:r>
              <a:rPr b="1" lang="zh-CN" sz="3000" spc="-1" strike="noStrike">
                <a:solidFill>
                  <a:srgbClr val="ffffff"/>
                </a:solidFill>
                <a:latin typeface="华文仿宋"/>
                <a:ea typeface="华文仿宋"/>
              </a:rPr>
              <a:t>Vx &lt; 0 </a:t>
            </a:r>
            <a:r>
              <a:rPr b="1" lang="zh-CN" sz="3000" spc="-1" strike="noStrike">
                <a:solidFill>
                  <a:srgbClr val="ffffff"/>
                </a:solidFill>
                <a:latin typeface="华文仿宋"/>
                <a:ea typeface="华文仿宋"/>
              </a:rPr>
              <a:t>时（即风从迎面吹来）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 </a:t>
            </a:r>
            <a:r>
              <a:rPr b="1" lang="zh-CN" sz="3000" spc="-1" strike="noStrike">
                <a:solidFill>
                  <a:srgbClr val="ffffff"/>
                </a:solidFill>
                <a:latin typeface="华文仿宋"/>
                <a:ea typeface="华文仿宋"/>
              </a:rPr>
              <a:t>R(U)=S/U·(U +|Vx| + A )= S + S·(|Vx| + A )/ U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华文仿宋"/>
                <a:ea typeface="华文仿宋"/>
              </a:rPr>
              <a:t>此时</a:t>
            </a:r>
            <a:r>
              <a:rPr b="1" lang="zh-CN" sz="3000" spc="-1" strike="noStrike">
                <a:solidFill>
                  <a:srgbClr val="ffffff"/>
                </a:solidFill>
                <a:latin typeface="华文仿宋"/>
                <a:ea typeface="华文仿宋"/>
              </a:rPr>
              <a:t>R(U)</a:t>
            </a:r>
            <a:r>
              <a:rPr b="1" lang="zh-CN" sz="3000" spc="-1" strike="noStrike">
                <a:solidFill>
                  <a:srgbClr val="ffffff"/>
                </a:solidFill>
                <a:latin typeface="华文仿宋"/>
                <a:ea typeface="华文仿宋"/>
              </a:rPr>
              <a:t>关于</a:t>
            </a:r>
            <a:r>
              <a:rPr b="1" lang="zh-CN" sz="3000" spc="-1" strike="noStrike">
                <a:solidFill>
                  <a:srgbClr val="ffffff"/>
                </a:solidFill>
                <a:latin typeface="华文仿宋"/>
                <a:ea typeface="华文仿宋"/>
              </a:rPr>
              <a:t>U</a:t>
            </a:r>
            <a:r>
              <a:rPr b="1" lang="zh-CN" sz="3000" spc="-1" strike="noStrike">
                <a:solidFill>
                  <a:srgbClr val="ffffff"/>
                </a:solidFill>
                <a:latin typeface="华文仿宋"/>
                <a:ea typeface="华文仿宋"/>
              </a:rPr>
              <a:t>递减，走得越快越好。 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初等模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F388EB-E51A-48DF-B61F-DB06A527A86F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数学建模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8" dur="indefinite" restart="never" nodeType="tmRoot">
          <p:childTnLst>
            <p:seq>
              <p:cTn id="759" dur="indefinite" nodeType="mainSeq">
                <p:childTnLst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4" dur="1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9" dur="10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4" dur="1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9" dur="1000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4" dur="1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68360" y="87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（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）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Vx &gt; 0 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时（即风从背面吹来）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539640" y="1268280"/>
          <a:ext cx="8064720" cy="216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268280"/>
                    <a:ext cx="8064720" cy="21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1116000" y="3716280"/>
          <a:ext cx="6912000" cy="2160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16000" y="3716280"/>
                    <a:ext cx="6912000" cy="21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初等模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E7E503-867D-4091-A81B-D65707917F06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数学建模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0" dur="indefinite" restart="never" nodeType="tmRoot">
          <p:childTnLst>
            <p:seq>
              <p:cTn id="791" dur="indefinite" nodeType="mainSeq">
                <p:childTnLst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6" dur="10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1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6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0" y="475920"/>
            <a:ext cx="91440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</a:t>
            </a: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当</a:t>
            </a: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Vx &lt; A </a:t>
            </a: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时，恒有 </a:t>
            </a: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R’(U) &lt; 0</a:t>
            </a: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，无极小值，即走得越快越好；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</a:t>
            </a: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当</a:t>
            </a: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Vx &gt; A </a:t>
            </a: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时，</a:t>
            </a: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R(U)</a:t>
            </a: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图形如图。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ffff"/>
                </a:solidFill>
                <a:uFillTx/>
                <a:latin typeface="Garamond"/>
              </a:rPr>
              <a:t>结论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zh-CN" sz="2800" spc="-1" strike="noStrike">
                <a:solidFill>
                  <a:srgbClr val="ffcc00"/>
                </a:solidFill>
                <a:latin typeface="Garamond"/>
              </a:rPr>
              <a:t>当 </a:t>
            </a:r>
            <a:r>
              <a:rPr b="1" lang="zh-CN" sz="2800" spc="-1" strike="noStrike">
                <a:solidFill>
                  <a:srgbClr val="ffcc00"/>
                </a:solidFill>
                <a:latin typeface="Garamond"/>
              </a:rPr>
              <a:t>0 &lt; A &lt; Vx </a:t>
            </a:r>
            <a:r>
              <a:rPr b="1" lang="zh-CN" sz="2800" spc="-1" strike="noStrike">
                <a:solidFill>
                  <a:srgbClr val="ffcc00"/>
                </a:solidFill>
                <a:latin typeface="Garamond"/>
              </a:rPr>
              <a:t>时，取 </a:t>
            </a:r>
            <a:r>
              <a:rPr b="1" lang="zh-CN" sz="2800" spc="-1" strike="noStrike">
                <a:solidFill>
                  <a:srgbClr val="ffcc00"/>
                </a:solidFill>
                <a:latin typeface="Garamond"/>
              </a:rPr>
              <a:t>U = Vx </a:t>
            </a:r>
            <a:r>
              <a:rPr b="1" lang="zh-CN" sz="2800" spc="-1" strike="noStrike">
                <a:solidFill>
                  <a:srgbClr val="ffcc00"/>
                </a:solidFill>
                <a:latin typeface="Garamond"/>
              </a:rPr>
              <a:t>，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Garamond"/>
              </a:rPr>
              <a:t>              </a:t>
            </a:r>
            <a:r>
              <a:rPr b="1" lang="zh-CN" sz="2800" spc="-1" strike="noStrike">
                <a:solidFill>
                  <a:srgbClr val="ffcc00"/>
                </a:solidFill>
                <a:latin typeface="Garamond"/>
              </a:rPr>
              <a:t>其他情况下，</a:t>
            </a:r>
            <a:r>
              <a:rPr b="1" lang="zh-CN" sz="2800" spc="-1" strike="noStrike">
                <a:solidFill>
                  <a:srgbClr val="ffcc00"/>
                </a:solidFill>
                <a:latin typeface="Garamond"/>
              </a:rPr>
              <a:t>U</a:t>
            </a:r>
            <a:r>
              <a:rPr b="1" lang="zh-CN" sz="2800" spc="-1" strike="noStrike">
                <a:solidFill>
                  <a:srgbClr val="ffcc00"/>
                </a:solidFill>
                <a:latin typeface="Garamond"/>
              </a:rPr>
              <a:t>应尽可能大。</a:t>
            </a: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611280" y="2349360"/>
          <a:ext cx="3456000" cy="115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349360"/>
                    <a:ext cx="3456000" cy="11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56" name="" descr=""/>
          <p:cNvPicPr/>
          <p:nvPr/>
        </p:nvPicPr>
        <p:blipFill>
          <a:blip r:embed="rId3"/>
          <a:stretch/>
        </p:blipFill>
        <p:spPr>
          <a:xfrm>
            <a:off x="4788000" y="1773360"/>
            <a:ext cx="4105080" cy="2735280"/>
          </a:xfrm>
          <a:prstGeom prst="rect">
            <a:avLst/>
          </a:prstGeom>
          <a:ln w="44280">
            <a:solidFill>
              <a:srgbClr val="000514"/>
            </a:solidFill>
            <a:miter/>
          </a:ln>
        </p:spPr>
      </p:pic>
      <p:sp>
        <p:nvSpPr>
          <p:cNvPr id="257" name=""/>
          <p:cNvSpPr/>
          <p:nvPr/>
        </p:nvSpPr>
        <p:spPr>
          <a:xfrm>
            <a:off x="179280" y="1700280"/>
            <a:ext cx="27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当</a:t>
            </a: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U=Vx</a:t>
            </a: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时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初等模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99998F-9A9F-43DC-B42E-173776BD555E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数学建模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7" dur="indefinite" restart="never" nodeType="tmRoot">
          <p:childTnLst>
            <p:seq>
              <p:cTn id="808" dur="indefinite" nodeType="mainSeq">
                <p:childTnLst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3" dur="10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8" dur="1000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3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8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3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3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3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42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0" y="404280"/>
            <a:ext cx="91440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Garamond"/>
                <a:ea typeface="华文行楷"/>
              </a:rPr>
              <a:t>        </a:t>
            </a:r>
            <a:r>
              <a:rPr b="1" lang="zh-CN" sz="4400" spc="-1" strike="noStrike">
                <a:solidFill>
                  <a:srgbClr val="ffcc00"/>
                </a:solidFill>
                <a:latin typeface="Garamond"/>
                <a:ea typeface="华文行楷"/>
              </a:rPr>
              <a:t>实物交换模型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  <a:ea typeface="华文仿宋"/>
              </a:rPr>
              <a:t>            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  <a:ea typeface="华文仿宋"/>
              </a:rPr>
              <a:t>实物交换的原则是：互通有无，</a:t>
            </a:r>
            <a:r>
              <a:rPr b="1" lang="zh-CN" sz="3200" spc="-1" strike="noStrike">
                <a:solidFill>
                  <a:srgbClr val="ffcc00"/>
                </a:solidFill>
                <a:latin typeface="Garamond"/>
                <a:ea typeface="华文仿宋"/>
              </a:rPr>
              <a:t>等价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  <a:ea typeface="华文仿宋"/>
              </a:rPr>
              <a:t>交换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  <a:ea typeface="华文仿宋"/>
              </a:rPr>
              <a:t>            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  <a:ea typeface="华文仿宋"/>
              </a:rPr>
              <a:t>一条重要的市场交换规则是：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  <a:ea typeface="华文仿宋"/>
              </a:rPr>
              <a:t>            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  <a:ea typeface="华文仿宋"/>
              </a:rPr>
              <a:t>设交换前甲有物品 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  <a:ea typeface="华文仿宋"/>
              </a:rPr>
              <a:t>X 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  <a:ea typeface="华文仿宋"/>
              </a:rPr>
              <a:t>的数量为</a:t>
            </a:r>
            <a:r>
              <a:rPr b="1" i="1" lang="zh-CN" sz="3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x</a:t>
            </a:r>
            <a:r>
              <a:rPr b="1" i="1" lang="zh-CN" sz="32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0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 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  <a:ea typeface="华文仿宋"/>
              </a:rPr>
              <a:t>，乙有物品 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  <a:ea typeface="华文仿宋"/>
              </a:rPr>
              <a:t>Y 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  <a:ea typeface="华文仿宋"/>
              </a:rPr>
              <a:t>的数量为</a:t>
            </a:r>
            <a:r>
              <a:rPr b="1" i="1" lang="zh-CN" sz="3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y</a:t>
            </a:r>
            <a:r>
              <a:rPr b="1" i="1" lang="zh-CN" sz="32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0</a:t>
            </a:r>
            <a:r>
              <a:rPr b="1" i="1" lang="zh-CN" sz="3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 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  <a:ea typeface="华文仿宋"/>
              </a:rPr>
              <a:t>，交换后甲有物品 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  <a:ea typeface="华文仿宋"/>
              </a:rPr>
              <a:t>X 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  <a:ea typeface="华文仿宋"/>
              </a:rPr>
              <a:t>和 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  <a:ea typeface="华文仿宋"/>
              </a:rPr>
              <a:t>Y 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  <a:ea typeface="华文仿宋"/>
              </a:rPr>
              <a:t>的数量分别为</a:t>
            </a:r>
            <a:r>
              <a:rPr b="1" i="1" lang="zh-CN" sz="3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x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  <a:ea typeface="华文仿宋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  <a:ea typeface="华文仿宋"/>
              </a:rPr>
              <a:t>和</a:t>
            </a:r>
            <a:r>
              <a:rPr b="1" i="1" lang="zh-CN" sz="3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y 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  <a:ea typeface="华文仿宋"/>
              </a:rPr>
              <a:t>。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0" name=""/>
          <p:cNvSpPr/>
          <p:nvPr/>
        </p:nvSpPr>
        <p:spPr>
          <a:xfrm>
            <a:off x="6443640" y="2924280"/>
            <a:ext cx="23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Garamond"/>
                <a:ea typeface="华文仿宋"/>
              </a:rPr>
              <a:t>物以稀为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初等模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39AA13-B5AD-42E6-BDEB-F75E21A00AE0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数学建模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8" dur="indefinite" restart="never" nodeType="tmRoot">
          <p:childTnLst>
            <p:seq>
              <p:cTn id="849" dur="indefinite" nodeType="mainSeq">
                <p:childTnLst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10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5" dur="10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0" dur="20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5" dur="2000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0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5" dur="2000"/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0" y="333000"/>
            <a:ext cx="91440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于是矩形                                                内任一点的坐标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(</a:t>
            </a:r>
            <a:r>
              <a:rPr b="1" i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x,y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) 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都代表了一种交换方案。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        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用无差别曲线描述甲对 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X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、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Y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的偏爱程度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1979640" y="260280"/>
          <a:ext cx="3816360" cy="5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60280"/>
                    <a:ext cx="381636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66" name="" descr=""/>
          <p:cNvPicPr/>
          <p:nvPr/>
        </p:nvPicPr>
        <p:blipFill>
          <a:blip r:embed="rId3"/>
          <a:stretch/>
        </p:blipFill>
        <p:spPr>
          <a:xfrm>
            <a:off x="1403280" y="2060640"/>
            <a:ext cx="6840720" cy="432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初等模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BAFEF6-693A-459C-B231-442BF3C92F80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数学建模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6" dur="indefinite" restart="never" nodeType="tmRoot">
          <p:childTnLst>
            <p:seq>
              <p:cTn id="877" dur="indefinite" nodeType="mainSeq">
                <p:childTnLst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2" dur="20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5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0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5" dur="2000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0" y="404640"/>
            <a:ext cx="91440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  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甲有无数条无差别曲线，记作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  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C</a:t>
            </a:r>
            <a:r>
              <a:rPr b="1" lang="zh-CN" sz="2800" spc="-1" strike="noStrike" baseline="-25000">
                <a:solidFill>
                  <a:srgbClr val="ffffff"/>
                </a:solidFill>
                <a:latin typeface="华文仿宋"/>
                <a:ea typeface="华文仿宋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称为满意度，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C</a:t>
            </a:r>
            <a:r>
              <a:rPr b="1" lang="zh-CN" sz="2800" spc="-1" strike="noStrike" baseline="-25000">
                <a:solidFill>
                  <a:srgbClr val="ffffff"/>
                </a:solidFill>
                <a:latin typeface="华文仿宋"/>
                <a:ea typeface="华文仿宋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越大，曲线越往右上方。该曲线应满足：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1. 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单调减的：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2. 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互不相交的：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3203640" y="1341360"/>
          <a:ext cx="2303280" cy="69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3640" y="1341360"/>
                    <a:ext cx="230328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2" name=""/>
          <p:cNvSpPr/>
          <p:nvPr/>
        </p:nvSpPr>
        <p:spPr>
          <a:xfrm>
            <a:off x="2556000" y="3500280"/>
            <a:ext cx="61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物品 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X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的增加必须以物品 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Y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的减少为代价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627280" y="4869000"/>
            <a:ext cx="6120000" cy="9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对同一交换方案，不应有不同的满意度值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初等模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B55562-26FD-4425-939F-50EEDCD7CE6F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数学建模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6" dur="indefinite" restart="never" nodeType="tmRoot">
          <p:childTnLst>
            <p:seq>
              <p:cTn id="897" dur="indefinite" nodeType="mainSeq">
                <p:childTnLst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2" dur="10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7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2" dur="2000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7" dur="2000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2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7" dur="2000"/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2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0" y="333360"/>
            <a:ext cx="914400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3. 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下凸的：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或者说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，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y</a:t>
            </a:r>
            <a:r>
              <a:rPr b="1" i="1" lang="zh-CN" sz="2800" spc="-1" strike="noStrike" baseline="30000">
                <a:solidFill>
                  <a:srgbClr val="ffffff"/>
                </a:solidFill>
                <a:latin typeface="Times New Roman"/>
                <a:ea typeface="바탕"/>
              </a:rPr>
              <a:t>’’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바탕"/>
              </a:rPr>
              <a:t>&gt;0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        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所以曲线是下凸的。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4211640" y="1399680"/>
            <a:ext cx="5994360" cy="5020920"/>
            <a:chOff x="4211640" y="1399680"/>
            <a:chExt cx="5994360" cy="5020920"/>
          </a:xfrm>
        </p:grpSpPr>
        <p:sp>
          <p:nvSpPr>
            <p:cNvPr id="278" name=""/>
            <p:cNvSpPr/>
            <p:nvPr/>
          </p:nvSpPr>
          <p:spPr>
            <a:xfrm>
              <a:off x="4516560" y="6037200"/>
              <a:ext cx="35622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 flipV="1">
              <a:off x="4506480" y="3294000"/>
              <a:ext cx="9720" cy="2743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 flipV="1" rot="21443400">
              <a:off x="4929120" y="1515600"/>
              <a:ext cx="5181840" cy="4266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404" y="17"/>
                  </a:moveTo>
                  <a:arcTo wR="10800" hR="10800" stAng="-5207732" swAng="5152417"/>
                  <a:lnTo>
                    <a:pt x="10800" y="10800"/>
                  </a:lnTo>
                  <a:close/>
                </a:path>
                <a:path fill="none" w="21600" h="21600">
                  <a:moveTo>
                    <a:pt x="11404" y="17"/>
                  </a:moveTo>
                  <a:arcTo wR="10800" hR="10800" stAng="-5207732" swAng="5152417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211640" y="3141720"/>
              <a:ext cx="97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287960" y="5869080"/>
              <a:ext cx="97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792920" y="5960880"/>
              <a:ext cx="524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 flipV="1">
              <a:off x="5649840" y="2607120"/>
              <a:ext cx="3352320" cy="259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 flipV="1">
              <a:off x="6183360" y="2904120"/>
              <a:ext cx="2285280" cy="1843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992" y="66"/>
                  </a:moveTo>
                  <a:arcTo wR="10800" hR="10800" stAng="-5019868" swAng="5019868"/>
                  <a:lnTo>
                    <a:pt x="10800" y="10800"/>
                  </a:lnTo>
                  <a:close/>
                </a:path>
                <a:path fill="none" w="21600" h="21600">
                  <a:moveTo>
                    <a:pt x="11992" y="66"/>
                  </a:moveTo>
                  <a:arcTo wR="10800" hR="10800" stAng="-5019868" swAng="5019868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497560" y="3370320"/>
              <a:ext cx="137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ff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ffffff"/>
                  </a:solidFill>
                  <a:latin typeface="Times New Roman"/>
                </a:rPr>
                <a:t>x,y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)=</a:t>
              </a:r>
              <a:r>
                <a:rPr b="1" i="1" lang="en-US" sz="24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5580000" y="3860640"/>
            <a:ext cx="1904760" cy="1218600"/>
            <a:chOff x="5580000" y="3860640"/>
            <a:chExt cx="1904760" cy="1218600"/>
          </a:xfrm>
        </p:grpSpPr>
        <p:sp>
          <p:nvSpPr>
            <p:cNvPr id="288" name=""/>
            <p:cNvSpPr/>
            <p:nvPr/>
          </p:nvSpPr>
          <p:spPr>
            <a:xfrm flipV="1">
              <a:off x="5580000" y="4012560"/>
              <a:ext cx="1143000" cy="10666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798960" y="3860640"/>
              <a:ext cx="685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r>
                <a:rPr b="1" lang="en-US" sz="2800" spc="-1" strike="noStrike" baseline="-25000">
                  <a:solidFill>
                    <a:srgbClr val="ffffff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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716360" y="4005360"/>
            <a:ext cx="1114200" cy="1371600"/>
            <a:chOff x="4716360" y="4005360"/>
            <a:chExt cx="1114200" cy="1371600"/>
          </a:xfrm>
        </p:grpSpPr>
        <p:grpSp>
          <p:nvGrpSpPr>
            <p:cNvPr id="291" name=""/>
            <p:cNvGrpSpPr/>
            <p:nvPr/>
          </p:nvGrpSpPr>
          <p:grpSpPr>
            <a:xfrm>
              <a:off x="4716360" y="4310280"/>
              <a:ext cx="857160" cy="1066680"/>
              <a:chOff x="4716360" y="4310280"/>
              <a:chExt cx="857160" cy="1066680"/>
            </a:xfrm>
          </p:grpSpPr>
          <p:sp>
            <p:nvSpPr>
              <p:cNvPr id="292" name=""/>
              <p:cNvSpPr/>
              <p:nvPr/>
            </p:nvSpPr>
            <p:spPr>
              <a:xfrm>
                <a:off x="4925880" y="4310280"/>
                <a:ext cx="647640" cy="8380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4925880" y="4310280"/>
                <a:ext cx="1800" cy="8380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4925880" y="5148360"/>
                <a:ext cx="647640" cy="14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aphicFrame>
            <p:nvGraphicFramePr>
              <p:cNvPr id="295" name=""/>
              <p:cNvGraphicFramePr/>
              <p:nvPr/>
            </p:nvGraphicFramePr>
            <p:xfrm>
              <a:off x="4716360" y="4697640"/>
              <a:ext cx="228600" cy="21276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296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4716360" y="4697640"/>
                        <a:ext cx="228600" cy="212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97" name=""/>
              <p:cNvGraphicFramePr/>
              <p:nvPr/>
            </p:nvGraphicFramePr>
            <p:xfrm>
              <a:off x="5102280" y="5148360"/>
              <a:ext cx="274320" cy="2286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298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5102280" y="5148360"/>
                        <a:ext cx="274320" cy="2286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299" name=""/>
            <p:cNvSpPr/>
            <p:nvPr/>
          </p:nvSpPr>
          <p:spPr>
            <a:xfrm>
              <a:off x="5383080" y="4476960"/>
              <a:ext cx="447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154480" y="4005360"/>
              <a:ext cx="4572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Times New Roman"/>
                </a:rPr>
                <a:t>.</a:t>
              </a: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5651640" y="4869000"/>
            <a:ext cx="1338120" cy="1128240"/>
            <a:chOff x="5651640" y="4869000"/>
            <a:chExt cx="1338120" cy="1128240"/>
          </a:xfrm>
        </p:grpSpPr>
        <p:grpSp>
          <p:nvGrpSpPr>
            <p:cNvPr id="302" name=""/>
            <p:cNvGrpSpPr/>
            <p:nvPr/>
          </p:nvGrpSpPr>
          <p:grpSpPr>
            <a:xfrm>
              <a:off x="5651640" y="5554440"/>
              <a:ext cx="1338120" cy="442800"/>
              <a:chOff x="5651640" y="5554440"/>
              <a:chExt cx="1338120" cy="442800"/>
            </a:xfrm>
          </p:grpSpPr>
          <p:sp>
            <p:nvSpPr>
              <p:cNvPr id="303" name=""/>
              <p:cNvSpPr/>
              <p:nvPr/>
            </p:nvSpPr>
            <p:spPr>
              <a:xfrm>
                <a:off x="5927760" y="5554440"/>
                <a:ext cx="985680" cy="2286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5937120" y="5581440"/>
                <a:ext cx="0" cy="2286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5937120" y="5810040"/>
                <a:ext cx="1052640" cy="14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aphicFrame>
            <p:nvGraphicFramePr>
              <p:cNvPr id="306" name=""/>
              <p:cNvGraphicFramePr/>
              <p:nvPr/>
            </p:nvGraphicFramePr>
            <p:xfrm>
              <a:off x="5651640" y="5586120"/>
              <a:ext cx="228600" cy="21456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30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5651640" y="5586120"/>
                        <a:ext cx="228600" cy="214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308" name=""/>
              <p:cNvGraphicFramePr/>
              <p:nvPr/>
            </p:nvGraphicFramePr>
            <p:xfrm>
              <a:off x="6184800" y="5810040"/>
              <a:ext cx="228600" cy="18720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30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6184800" y="5810040"/>
                        <a:ext cx="228600" cy="187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310" name=""/>
            <p:cNvSpPr/>
            <p:nvPr/>
          </p:nvSpPr>
          <p:spPr>
            <a:xfrm>
              <a:off x="6318000" y="5249880"/>
              <a:ext cx="5331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165720" y="4869000"/>
              <a:ext cx="6091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Times New Roman"/>
                </a:rPr>
                <a:t>.</a:t>
              </a: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2" name=""/>
          <p:cNvSpPr/>
          <p:nvPr/>
        </p:nvSpPr>
        <p:spPr>
          <a:xfrm>
            <a:off x="1332000" y="981000"/>
            <a:ext cx="68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按照“物以稀为贵”的市场规则，当</a:t>
            </a:r>
            <a:r>
              <a:rPr b="1" i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x</a:t>
            </a: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较小时，人们愿意以较多的</a:t>
            </a: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|</a:t>
            </a:r>
            <a:r>
              <a:rPr b="1" lang="el-GR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Δ</a:t>
            </a:r>
            <a:r>
              <a:rPr b="1" i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y </a:t>
            </a: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|</a:t>
            </a: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交换较少的</a:t>
            </a:r>
            <a:r>
              <a:rPr b="1" lang="el-GR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Δ</a:t>
            </a: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 </a:t>
            </a:r>
            <a:r>
              <a:rPr b="1" i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x</a:t>
            </a: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 ; </a:t>
            </a: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当</a:t>
            </a:r>
            <a:r>
              <a:rPr b="1" i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x</a:t>
            </a: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较大时，人们愿意以较少的</a:t>
            </a: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|</a:t>
            </a:r>
            <a:r>
              <a:rPr b="1" lang="el-GR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Δ</a:t>
            </a: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y |</a:t>
            </a: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交换较多的</a:t>
            </a:r>
            <a:r>
              <a:rPr b="1" lang="el-GR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Δ</a:t>
            </a: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 </a:t>
            </a:r>
            <a:r>
              <a:rPr b="1" i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x</a:t>
            </a: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，即</a:t>
            </a: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|</a:t>
            </a:r>
            <a:r>
              <a:rPr b="1" lang="el-GR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Δ</a:t>
            </a: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y |</a:t>
            </a: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/ </a:t>
            </a:r>
            <a:r>
              <a:rPr b="1" lang="el-GR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Δ</a:t>
            </a: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 </a:t>
            </a:r>
            <a:r>
              <a:rPr b="1" i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x</a:t>
            </a: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关于</a:t>
            </a:r>
            <a:r>
              <a:rPr b="1" i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x</a:t>
            </a: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是递减的，从而</a:t>
            </a:r>
            <a:r>
              <a:rPr b="1" lang="el-GR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Δ</a:t>
            </a: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y / </a:t>
            </a:r>
            <a:r>
              <a:rPr b="1" lang="el-GR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Δ</a:t>
            </a: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 x</a:t>
            </a: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关于</a:t>
            </a: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x</a:t>
            </a: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是递增的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初等模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AA14C7-1304-4F4B-8FBC-8D87279ACF01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数学建模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9" dur="20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44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9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4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9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4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6840" y="476280"/>
            <a:ext cx="814716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同样，乙的无差别曲线记作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为了得到双方满意的交换方案，将双方的无差别曲线画在一起。</a:t>
            </a:r>
            <a:r>
              <a:rPr b="0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3059280" y="1413000"/>
          <a:ext cx="2520720" cy="83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59280" y="1413000"/>
                    <a:ext cx="2520720" cy="83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初等模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B218AB-ACBD-4075-B0EB-46BF54739F74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数学建模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5" dur="indefinite" restart="never" nodeType="tmRoot">
          <p:childTnLst>
            <p:seq>
              <p:cTn id="976" dur="indefinite" nodeType="mainSeq">
                <p:childTnLst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1" dur="20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1112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0" y="404640"/>
            <a:ext cx="8964720" cy="561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Garamond"/>
              </a:rPr>
              <a:t>          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黑体"/>
              </a:rPr>
              <a:t>问题的转化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Garamond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1" lang="zh-CN" sz="2400" spc="-1" strike="noStrike">
                <a:solidFill>
                  <a:srgbClr val="ffcc00"/>
                </a:solidFill>
                <a:latin typeface="华文仿宋"/>
                <a:ea typeface="华文仿宋"/>
              </a:rPr>
              <a:t>假设   </a:t>
            </a: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地面的凹凸变化是连续的，并且没有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大的起伏。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在此假设下， </a:t>
            </a: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a,b,c,d </a:t>
            </a: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均为 </a:t>
            </a:r>
            <a:r>
              <a:rPr b="1" i="1" lang="el-GR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θ</a:t>
            </a: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  </a:t>
            </a: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的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连续函数，且           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 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(a+c)(b+d)=0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</a:t>
            </a: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令    </a:t>
            </a:r>
            <a:r>
              <a:rPr b="1" i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f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(</a:t>
            </a:r>
            <a:r>
              <a:rPr b="1" i="1" lang="el-GR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θ</a:t>
            </a: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 )=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a+c,     </a:t>
            </a:r>
            <a:r>
              <a:rPr b="1" i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g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(</a:t>
            </a:r>
            <a:r>
              <a:rPr b="1" i="1" lang="el-GR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θ</a:t>
            </a: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 )=b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+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且</a:t>
            </a:r>
            <a:r>
              <a:rPr b="1" i="1" lang="el-GR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θ</a:t>
            </a: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＝</a:t>
            </a: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0</a:t>
            </a: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时，不妨设 </a:t>
            </a:r>
            <a:r>
              <a:rPr b="1" i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g</a:t>
            </a: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(0)=0,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 </a:t>
            </a:r>
            <a:r>
              <a:rPr b="1" i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f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(0)&gt;0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zh-CN" sz="1600" spc="-1" strike="noStrike">
                <a:solidFill>
                  <a:srgbClr val="ffffff"/>
                </a:solidFill>
                <a:latin typeface="Garamond"/>
              </a:rPr>
              <a:t>        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724360" y="2924280"/>
            <a:ext cx="3419640" cy="3127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初等模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D4BF74-C0DB-48ED-A4D4-88FD6B38007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数学建模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0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0" y="333360"/>
            <a:ext cx="914400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2771640" y="1397880"/>
            <a:ext cx="4114800" cy="3416400"/>
            <a:chOff x="2771640" y="1397880"/>
            <a:chExt cx="4114800" cy="3416400"/>
          </a:xfrm>
        </p:grpSpPr>
        <p:sp>
          <p:nvSpPr>
            <p:cNvPr id="320" name=""/>
            <p:cNvSpPr/>
            <p:nvPr/>
          </p:nvSpPr>
          <p:spPr>
            <a:xfrm>
              <a:off x="6352920" y="435456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21" name=""/>
            <p:cNvGrpSpPr/>
            <p:nvPr/>
          </p:nvGrpSpPr>
          <p:grpSpPr>
            <a:xfrm>
              <a:off x="2771640" y="1397880"/>
              <a:ext cx="4114080" cy="3406320"/>
              <a:chOff x="2771640" y="1397880"/>
              <a:chExt cx="4114080" cy="3406320"/>
            </a:xfrm>
          </p:grpSpPr>
          <p:sp>
            <p:nvSpPr>
              <p:cNvPr id="322" name=""/>
              <p:cNvSpPr/>
              <p:nvPr/>
            </p:nvSpPr>
            <p:spPr>
              <a:xfrm>
                <a:off x="3152880" y="4370040"/>
                <a:ext cx="33526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V="1">
                <a:off x="3152880" y="2083680"/>
                <a:ext cx="0" cy="2285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5896080" y="2495520"/>
                <a:ext cx="0" cy="18284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flipH="1">
                <a:off x="3152880" y="2495520"/>
                <a:ext cx="27432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flipH="1" flipV="1">
                <a:off x="3304440" y="1778760"/>
                <a:ext cx="2133000" cy="2285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1098" y="4"/>
                    </a:moveTo>
                    <a:arcTo wR="10800" hR="10800" stAng="-5305049" swAng="530504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1098" y="4"/>
                    </a:moveTo>
                    <a:arcTo wR="10800" hR="10800" stAng="-5305049" swAng="5305049"/>
                  </a:path>
                </a:pathLst>
              </a:custGeom>
              <a:noFill/>
              <a:ln w="1260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flipH="1" flipV="1">
                <a:off x="4143240" y="1475280"/>
                <a:ext cx="2133360" cy="2284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260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flipH="1" flipV="1">
                <a:off x="3762360" y="1627560"/>
                <a:ext cx="2132640" cy="2284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260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flipH="1" flipV="1">
                <a:off x="4752360" y="1397880"/>
                <a:ext cx="2133000" cy="2286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795" y="186"/>
                    </a:moveTo>
                    <a:arcTo wR="10800" hR="10800" stAng="-4761284" swAng="476128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795" y="186"/>
                    </a:moveTo>
                    <a:arcTo wR="10800" hR="10800" stAng="-4761284" swAng="4761284"/>
                  </a:path>
                </a:pathLst>
              </a:custGeom>
              <a:noFill/>
              <a:ln w="1260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2847960" y="1916280"/>
                <a:ext cx="609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y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2771640" y="2373120"/>
                <a:ext cx="68580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2000" spc="-1" strike="noStrike">
                    <a:solidFill>
                      <a:srgbClr val="ffffff"/>
                    </a:solidFill>
                    <a:latin typeface="Times New Roman"/>
                  </a:rPr>
                  <a:t>y</a:t>
                </a:r>
                <a:r>
                  <a:rPr b="1" lang="zh-CN" sz="2000" spc="-1" strike="noStrike" baseline="-25000">
                    <a:solidFill>
                      <a:srgbClr val="ffffff"/>
                    </a:solidFill>
                    <a:latin typeface="Times New Roman"/>
                  </a:rPr>
                  <a:t>o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2847960" y="4232160"/>
                <a:ext cx="609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O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5819760" y="4294080"/>
                <a:ext cx="9144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x</a:t>
                </a:r>
                <a:r>
                  <a:rPr b="1" lang="en-US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o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5057640" y="3897000"/>
                <a:ext cx="7621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cc00"/>
                    </a:solidFill>
                    <a:latin typeface="Times New Roman"/>
                  </a:rPr>
                  <a:t>f</a:t>
                </a:r>
                <a:r>
                  <a:rPr b="1" lang="en-US" sz="2400" spc="-1" strike="noStrike">
                    <a:solidFill>
                      <a:srgbClr val="ffcc00"/>
                    </a:solidFill>
                    <a:latin typeface="Times New Roman"/>
                  </a:rPr>
                  <a:t>=</a:t>
                </a:r>
                <a:r>
                  <a:rPr b="1" i="1" lang="en-US" sz="2400" spc="-1" strike="noStrike">
                    <a:solidFill>
                      <a:srgbClr val="ffcc00"/>
                    </a:solidFill>
                    <a:latin typeface="Times New Roman"/>
                  </a:rPr>
                  <a:t>c</a:t>
                </a:r>
                <a:r>
                  <a:rPr b="1" lang="en-US" sz="2400" spc="-1" strike="noStrike" baseline="-25000">
                    <a:solidFill>
                      <a:srgbClr val="ffcc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35" name=""/>
          <p:cNvGrpSpPr/>
          <p:nvPr/>
        </p:nvGrpSpPr>
        <p:grpSpPr>
          <a:xfrm>
            <a:off x="2098800" y="2060640"/>
            <a:ext cx="4267080" cy="3580920"/>
            <a:chOff x="2098800" y="2060640"/>
            <a:chExt cx="4267080" cy="3580920"/>
          </a:xfrm>
        </p:grpSpPr>
        <p:sp>
          <p:nvSpPr>
            <p:cNvPr id="336" name=""/>
            <p:cNvSpPr/>
            <p:nvPr/>
          </p:nvSpPr>
          <p:spPr>
            <a:xfrm>
              <a:off x="3623400" y="2594160"/>
              <a:ext cx="2132640" cy="259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937600" y="2594160"/>
              <a:ext cx="2132640" cy="259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404080" y="2746440"/>
              <a:ext cx="2132640" cy="259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098800" y="3051360"/>
              <a:ext cx="2133360" cy="259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632320" y="3432240"/>
              <a:ext cx="106632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832720" y="2212920"/>
              <a:ext cx="533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r>
                <a:rPr b="1" lang="en-US" sz="2000" spc="-1" strike="noStrike" baseline="30000">
                  <a:solidFill>
                    <a:srgbClr val="ffffff"/>
                  </a:solidFill>
                  <a:latin typeface="Times New Roman"/>
                </a:rPr>
                <a:t>‘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>
              <a:off x="2631960" y="2517840"/>
              <a:ext cx="533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908680" y="4270320"/>
              <a:ext cx="0" cy="609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556000" y="206064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r>
                <a:rPr b="1" lang="en-US" sz="2400" spc="-1" strike="noStrike" baseline="30000">
                  <a:solidFill>
                    <a:srgbClr val="ffffff"/>
                  </a:solidFill>
                  <a:latin typeface="Times New Roman"/>
                </a:rPr>
                <a:t>’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56400" y="480384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ff"/>
                  </a:solidFill>
                  <a:latin typeface="Times New Roman"/>
                </a:rPr>
                <a:t>y</a:t>
              </a:r>
              <a:r>
                <a:rPr b="1" lang="en-US" sz="2400" spc="-1" strike="noStrike" baseline="30000">
                  <a:solidFill>
                    <a:srgbClr val="ffffff"/>
                  </a:solidFill>
                  <a:latin typeface="Times New Roman"/>
                </a:rPr>
                <a:t>’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699000" y="4194360"/>
              <a:ext cx="838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Times New Roman"/>
                </a:rPr>
                <a:t>g</a:t>
              </a: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=</a:t>
              </a:r>
              <a:r>
                <a:rPr b="1" i="1" lang="en-US" sz="2400" spc="-1" strike="noStrike">
                  <a:solidFill>
                    <a:srgbClr val="ff3300"/>
                  </a:solidFill>
                  <a:latin typeface="Times New Roman"/>
                </a:rPr>
                <a:t>c</a:t>
              </a:r>
              <a:r>
                <a:rPr b="1" lang="en-US" sz="2400" spc="-1" strike="noStrike" baseline="-25000">
                  <a:solidFill>
                    <a:srgbClr val="ff33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3059280" y="2997360"/>
            <a:ext cx="4722480" cy="2209320"/>
            <a:chOff x="3059280" y="2997360"/>
            <a:chExt cx="4722480" cy="2209320"/>
          </a:xfrm>
        </p:grpSpPr>
        <p:sp>
          <p:nvSpPr>
            <p:cNvPr id="348" name=""/>
            <p:cNvSpPr/>
            <p:nvPr/>
          </p:nvSpPr>
          <p:spPr>
            <a:xfrm>
              <a:off x="3059280" y="3835440"/>
              <a:ext cx="53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344920" y="2997360"/>
              <a:ext cx="60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 flipH="1">
              <a:off x="3363840" y="3073680"/>
              <a:ext cx="4417920" cy="2133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278240" y="3164040"/>
              <a:ext cx="456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25960" y="3073680"/>
              <a:ext cx="456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4050000" y="23702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Q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初等模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298BB8-1FD8-425F-872D-B0DA4CE3A9D9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数学建模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2" dur="indefinite" restart="never" nodeType="tmRoot">
          <p:childTnLst>
            <p:seq>
              <p:cTn id="993" dur="indefinite" nodeType="mainSeq">
                <p:childTnLst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98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03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8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-360" y="333000"/>
            <a:ext cx="889308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用      表示两族无差别曲线的切点连成的曲线。假设交换发生在曲线        以外一点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Q ,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设甲的通过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Q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的无差别曲线与曲线       的交点为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P,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则对甲方而言，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Q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与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P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在同一条无差别曲线上，满意度相同，他不会在意交换在这两点中哪一点处发生。对乙方而言，由于无差别曲线的下凸性，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P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点的满意度高于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Q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点的满意度，乙方更愿意交换在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P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点发生，故交换不会在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Q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点发生。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3635280" y="1197000"/>
          <a:ext cx="865440" cy="43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35280" y="1197000"/>
                    <a:ext cx="8654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971640" y="549360"/>
          <a:ext cx="863640" cy="43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71640" y="549360"/>
                    <a:ext cx="8636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3995640" y="1844640"/>
          <a:ext cx="792360" cy="438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995640" y="1844640"/>
                    <a:ext cx="79236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初等模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F142A-1905-42F0-9CAF-0A750DD18D88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数学建模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0" y="404640"/>
            <a:ext cx="91440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       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Garamond"/>
                <a:ea typeface="黑体"/>
              </a:rPr>
              <a:t>           </a:t>
            </a:r>
            <a:r>
              <a:rPr b="1" lang="zh-CN" sz="3600" spc="-1" strike="noStrike" u="sng">
                <a:solidFill>
                  <a:srgbClr val="ffffff"/>
                </a:solidFill>
                <a:uFillTx/>
                <a:latin typeface="Garamond"/>
                <a:ea typeface="黑体"/>
              </a:rPr>
              <a:t>结论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 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            </a:t>
            </a:r>
            <a:r>
              <a:rPr b="1" lang="zh-CN" sz="3200" spc="-1" strike="noStrike">
                <a:solidFill>
                  <a:srgbClr val="ffcc00"/>
                </a:solidFill>
                <a:latin typeface="华文仿宋"/>
                <a:ea typeface="华文仿宋"/>
              </a:rPr>
              <a:t>双方满意的交换方案在曲线 </a:t>
            </a:r>
            <a:r>
              <a:rPr b="1" lang="zh-CN" sz="3200" spc="-1" strike="noStrike">
                <a:solidFill>
                  <a:srgbClr val="ffcc00"/>
                </a:solidFill>
                <a:latin typeface="华文仿宋"/>
                <a:ea typeface="华文仿宋"/>
              </a:rPr>
              <a:t>AB </a:t>
            </a:r>
            <a:r>
              <a:rPr b="1" lang="zh-CN" sz="3200" spc="-1" strike="noStrike">
                <a:solidFill>
                  <a:srgbClr val="ffcc00"/>
                </a:solidFill>
                <a:latin typeface="华文仿宋"/>
                <a:ea typeface="华文仿宋"/>
              </a:rPr>
              <a:t>上。</a:t>
            </a:r>
            <a:r>
              <a:rPr b="1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初等模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B2185F-B6CA-402B-9061-7C43FB5C6A5C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数学建模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9" dur="indefinite" restart="never" nodeType="tmRoot">
          <p:childTnLst>
            <p:seq>
              <p:cTn id="1010" dur="indefinite" nodeType="mainSeq">
                <p:childTnLst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3" dur="2000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cc00"/>
                </a:solidFill>
                <a:latin typeface="华文行楷"/>
                <a:ea typeface="华文行楷"/>
              </a:rPr>
              <a:t>  </a:t>
            </a:r>
            <a:r>
              <a:rPr b="0" lang="zh-CN" sz="6600" spc="-1" strike="noStrike">
                <a:solidFill>
                  <a:srgbClr val="ffcc00"/>
                </a:solidFill>
                <a:latin typeface="华文行楷"/>
                <a:ea typeface="华文行楷"/>
              </a:rPr>
              <a:t>The End !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0" spc="-1" strike="noStrike">
                <a:solidFill>
                  <a:srgbClr val="ffcc00"/>
                </a:solidFill>
                <a:latin typeface="Edwardian Script ITC"/>
              </a:rPr>
              <a:t>       </a:t>
            </a:r>
            <a:r>
              <a:rPr b="0" lang="zh-CN" sz="10000" spc="-1" strike="noStrike">
                <a:solidFill>
                  <a:srgbClr val="ffcc00"/>
                </a:solidFill>
                <a:latin typeface="Edwardian Script ITC"/>
              </a:rPr>
              <a:t>Thanks !</a:t>
            </a:r>
            <a:endParaRPr b="0" lang="en-US" sz="10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初等模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493A23-3483-472B-BA0C-CE6F941D24D0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数学建模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30" dur="2000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4" dur="2000" fill="hold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5" dur="2000" fill="hold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02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0" y="620640"/>
            <a:ext cx="914400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于是椅子问题抽象成了如下数学问题：</a:t>
            </a: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【已知】   </a:t>
            </a:r>
            <a:r>
              <a:rPr b="1" i="1" lang="zh-CN" sz="3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f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(</a:t>
            </a:r>
            <a:r>
              <a:rPr b="1" i="1" lang="el-GR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θ</a:t>
            </a:r>
            <a:r>
              <a:rPr b="1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 ), </a:t>
            </a:r>
            <a:r>
              <a:rPr b="1" i="1" lang="zh-CN" sz="3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g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(</a:t>
            </a:r>
            <a:r>
              <a:rPr b="1" i="1" lang="el-GR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θ</a:t>
            </a:r>
            <a:r>
              <a:rPr b="1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 )</a:t>
            </a:r>
            <a:r>
              <a:rPr b="1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连续，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     </a:t>
            </a:r>
            <a:r>
              <a:rPr b="1" i="1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g</a:t>
            </a:r>
            <a:r>
              <a:rPr b="1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(0)=0,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   </a:t>
            </a:r>
            <a:r>
              <a:rPr b="1" i="1" lang="zh-CN" sz="3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f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(0)&gt;0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，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                 </a:t>
            </a:r>
            <a:r>
              <a:rPr b="1" i="1" lang="zh-CN" sz="3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f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(</a:t>
            </a:r>
            <a:r>
              <a:rPr b="1" i="1" lang="el-GR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θ</a:t>
            </a:r>
            <a:r>
              <a:rPr b="1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 )</a:t>
            </a:r>
            <a:r>
              <a:rPr b="1" i="1" lang="zh-CN" sz="3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g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(</a:t>
            </a:r>
            <a:r>
              <a:rPr b="1" i="1" lang="el-GR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θ</a:t>
            </a:r>
            <a:r>
              <a:rPr b="1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 )</a:t>
            </a:r>
            <a:r>
              <a:rPr b="1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＝</a:t>
            </a:r>
            <a:r>
              <a:rPr b="1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0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    </a:t>
            </a:r>
            <a:r>
              <a:rPr b="1" i="1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g</a:t>
            </a:r>
            <a:r>
              <a:rPr b="1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(</a:t>
            </a:r>
            <a:r>
              <a:rPr b="1" lang="el-GR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π</a:t>
            </a:r>
            <a:r>
              <a:rPr b="1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/2)=</a:t>
            </a:r>
            <a:r>
              <a:rPr b="1" i="1" lang="zh-CN" sz="3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f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(0)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，</a:t>
            </a:r>
            <a:r>
              <a:rPr b="1" i="1" lang="zh-CN" sz="3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f</a:t>
            </a:r>
            <a:r>
              <a:rPr b="1" i="1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(</a:t>
            </a:r>
            <a:r>
              <a:rPr b="1" lang="el-GR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π</a:t>
            </a:r>
            <a:r>
              <a:rPr b="1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/2)=</a:t>
            </a:r>
            <a:r>
              <a:rPr b="1" i="1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g</a:t>
            </a:r>
            <a:r>
              <a:rPr b="1" i="1" lang="zh-CN" sz="3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(0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【求证】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1835280" y="4941720"/>
          <a:ext cx="6769080" cy="641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4941720"/>
                    <a:ext cx="6769080" cy="64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初等模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C3E1ED-65DC-4CD9-979B-068AD9564A5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数学建模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02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549000"/>
            <a:ext cx="896472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【证明】  令  </a:t>
            </a:r>
            <a:r>
              <a:rPr b="1" i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h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(</a:t>
            </a:r>
            <a:r>
              <a:rPr b="1" i="1" lang="el-GR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θ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  )=</a:t>
            </a:r>
            <a:r>
              <a:rPr b="1" i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g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（</a:t>
            </a:r>
            <a:r>
              <a:rPr b="1" i="1" lang="el-GR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θ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  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）－</a:t>
            </a:r>
            <a:r>
              <a:rPr b="1" i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f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（</a:t>
            </a:r>
            <a:r>
              <a:rPr b="1" i="1" lang="el-GR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θ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  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）</a:t>
            </a:r>
            <a:r>
              <a:rPr b="0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502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则          </a:t>
            </a:r>
            <a:r>
              <a:rPr b="1" i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h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0 )= </a:t>
            </a:r>
            <a:r>
              <a:rPr b="1" i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g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0 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）－</a:t>
            </a:r>
            <a:r>
              <a:rPr b="1" i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f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0 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）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&lt;0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502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将椅子转动角度</a:t>
            </a:r>
            <a:r>
              <a:rPr b="1" lang="el-GR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π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/2</a:t>
            </a:r>
            <a:r>
              <a:rPr b="0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，即把</a:t>
            </a:r>
            <a:r>
              <a:rPr b="1" i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AC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与</a:t>
            </a:r>
            <a:r>
              <a:rPr b="1" i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BD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互换位置，</a:t>
            </a:r>
            <a:r>
              <a:rPr b="0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502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则有    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g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(</a:t>
            </a:r>
            <a:r>
              <a:rPr b="1" lang="el-GR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π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/2</a:t>
            </a:r>
            <a:r>
              <a:rPr b="0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)=</a:t>
            </a:r>
            <a:r>
              <a:rPr b="0" i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f </a:t>
            </a:r>
            <a:r>
              <a:rPr b="0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(0)&gt;0    </a:t>
            </a:r>
            <a:r>
              <a:rPr b="1" i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f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(</a:t>
            </a:r>
            <a:r>
              <a:rPr b="1" lang="el-GR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π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/2 )=</a:t>
            </a:r>
            <a:r>
              <a:rPr b="1" i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g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(0)=0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502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从而有      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h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(</a:t>
            </a:r>
            <a:r>
              <a:rPr b="1" lang="el-GR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π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/2</a:t>
            </a:r>
            <a:r>
              <a:rPr b="0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)=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g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(</a:t>
            </a:r>
            <a:r>
              <a:rPr b="1" lang="el-GR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π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/2</a:t>
            </a:r>
            <a:r>
              <a:rPr b="0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)</a:t>
            </a:r>
            <a:r>
              <a:rPr b="0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－ </a:t>
            </a:r>
            <a:r>
              <a:rPr b="1" i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f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(</a:t>
            </a:r>
            <a:r>
              <a:rPr b="1" lang="el-GR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π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/2 )&gt;0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502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h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在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[0, </a:t>
            </a:r>
            <a:r>
              <a:rPr b="1" lang="el-GR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π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/2 ]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中连续，故存在 </a:t>
            </a:r>
            <a:r>
              <a:rPr b="1" i="1" lang="el-GR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θ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 </a:t>
            </a:r>
            <a:r>
              <a:rPr b="1" i="1" lang="zh-CN" sz="2800" spc="-1" strike="noStrike" baseline="-25000">
                <a:solidFill>
                  <a:srgbClr val="ffffff"/>
                </a:solidFill>
                <a:latin typeface="华文仿宋"/>
                <a:ea typeface="华文仿宋"/>
              </a:rPr>
              <a:t>0</a:t>
            </a:r>
            <a:r>
              <a:rPr b="1" i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属于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0, </a:t>
            </a:r>
            <a:r>
              <a:rPr b="1" lang="el-GR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π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/2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），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502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使得                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h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(</a:t>
            </a:r>
            <a:r>
              <a:rPr b="1" i="1" lang="el-GR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θ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 </a:t>
            </a:r>
            <a:r>
              <a:rPr b="1" i="1" lang="zh-CN" sz="2800" spc="-1" strike="noStrike" baseline="-25000">
                <a:solidFill>
                  <a:srgbClr val="ffffff"/>
                </a:solidFill>
                <a:latin typeface="华文仿宋"/>
                <a:ea typeface="华文仿宋"/>
              </a:rPr>
              <a:t>0</a:t>
            </a:r>
            <a:r>
              <a:rPr b="1" i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)= 0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502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即</a:t>
            </a:r>
            <a:r>
              <a:rPr b="0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       </a:t>
            </a:r>
            <a:r>
              <a:rPr b="1" i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f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(</a:t>
            </a:r>
            <a:r>
              <a:rPr b="1" i="1" lang="el-GR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θ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 </a:t>
            </a:r>
            <a:r>
              <a:rPr b="1" i="1" lang="zh-CN" sz="2800" spc="-1" strike="noStrike" baseline="-25000">
                <a:solidFill>
                  <a:srgbClr val="ffffff"/>
                </a:solidFill>
                <a:latin typeface="华文仿宋"/>
                <a:ea typeface="华文仿宋"/>
              </a:rPr>
              <a:t>0</a:t>
            </a:r>
            <a:r>
              <a:rPr b="1" i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)=</a:t>
            </a:r>
            <a:r>
              <a:rPr b="1" i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g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(</a:t>
            </a:r>
            <a:r>
              <a:rPr b="1" i="1" lang="el-GR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θ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 </a:t>
            </a:r>
            <a:r>
              <a:rPr b="1" i="1" lang="zh-CN" sz="2800" spc="-1" strike="noStrike" baseline="-25000">
                <a:solidFill>
                  <a:srgbClr val="ffffff"/>
                </a:solidFill>
                <a:latin typeface="华文仿宋"/>
                <a:ea typeface="华文仿宋"/>
              </a:rPr>
              <a:t>0</a:t>
            </a:r>
            <a:r>
              <a:rPr b="1" i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)=0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502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                                   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证毕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502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          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502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502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502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 </a:t>
            </a: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        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初等模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54D3F9-3693-4288-8FC2-05CEECE6C14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数学建模</a:t>
            </a: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-489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47592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华文仿宋"/>
                <a:ea typeface="华文仿宋"/>
              </a:rPr>
              <a:t>结论</a:t>
            </a:r>
            <a:r>
              <a:rPr b="1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 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</a:t>
            </a:r>
            <a:r>
              <a:rPr b="1" lang="zh-CN" sz="3200" spc="-1" strike="noStrike">
                <a:solidFill>
                  <a:srgbClr val="ffcc00"/>
                </a:solidFill>
                <a:latin typeface="华文仿宋"/>
                <a:ea typeface="华文仿宋"/>
              </a:rPr>
              <a:t>如果地面是连续变化的，则四条腿能够同时落地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思考题：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方椅子改为长方形椅子，结论如何？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地面为球面一部分时，结论如何？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初等模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8C1B08-96E0-42A9-BA94-CA46A0C56AF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数学建模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453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549360"/>
            <a:ext cx="8229600" cy="54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Garamond"/>
              </a:rPr>
              <a:t>问题总结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Garamond"/>
              </a:rPr>
              <a:t>椅子问题的解决关键是引入变量</a:t>
            </a:r>
            <a:r>
              <a:rPr b="1" i="1" lang="el-GR" sz="3600" spc="-1" strike="noStrike">
                <a:solidFill>
                  <a:srgbClr val="ffffff"/>
                </a:solidFill>
                <a:latin typeface="华文仿宋"/>
                <a:ea typeface="华文仿宋"/>
              </a:rPr>
              <a:t>θ</a:t>
            </a:r>
            <a:r>
              <a:rPr b="1" lang="zh-CN" sz="3600" spc="-1" strike="noStrike">
                <a:solidFill>
                  <a:srgbClr val="ffffff"/>
                </a:solidFill>
                <a:latin typeface="华文仿宋"/>
                <a:ea typeface="华文仿宋"/>
              </a:rPr>
              <a:t> </a:t>
            </a:r>
            <a:r>
              <a:rPr b="1" lang="zh-CN" sz="3600" spc="-1" strike="noStrike">
                <a:solidFill>
                  <a:srgbClr val="ffffff"/>
                </a:solidFill>
                <a:latin typeface="Garamond"/>
              </a:rPr>
              <a:t> </a:t>
            </a:r>
            <a:r>
              <a:rPr b="1" lang="zh-CN" sz="3600" spc="-1" strike="noStrike">
                <a:solidFill>
                  <a:srgbClr val="ffffff"/>
                </a:solidFill>
                <a:latin typeface="Garamond"/>
              </a:rPr>
              <a:t>，一是可以用 </a:t>
            </a:r>
            <a:r>
              <a:rPr b="1" i="1" lang="el-GR" sz="3600" spc="-1" strike="noStrike">
                <a:solidFill>
                  <a:srgbClr val="ffffff"/>
                </a:solidFill>
                <a:latin typeface="华文仿宋"/>
                <a:ea typeface="华文仿宋"/>
              </a:rPr>
              <a:t>θ</a:t>
            </a:r>
            <a:r>
              <a:rPr b="1" lang="zh-CN" sz="3600" spc="-1" strike="noStrike">
                <a:solidFill>
                  <a:srgbClr val="ffffff"/>
                </a:solidFill>
                <a:latin typeface="华文仿宋"/>
                <a:ea typeface="华文仿宋"/>
              </a:rPr>
              <a:t> </a:t>
            </a:r>
            <a:r>
              <a:rPr b="1" lang="zh-CN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Garamond"/>
              </a:rPr>
              <a:t>表示椅子的位置，二是椅子腿与地面的距离可以表示为 </a:t>
            </a:r>
            <a:r>
              <a:rPr b="1" i="1" lang="el-GR" sz="3600" spc="-1" strike="noStrike">
                <a:solidFill>
                  <a:srgbClr val="ffffff"/>
                </a:solidFill>
                <a:latin typeface="华文仿宋"/>
                <a:ea typeface="华文仿宋"/>
              </a:rPr>
              <a:t>θ</a:t>
            </a:r>
            <a:r>
              <a:rPr b="1" lang="zh-CN" sz="3600" spc="-1" strike="noStrike">
                <a:solidFill>
                  <a:srgbClr val="ffffff"/>
                </a:solidFill>
                <a:latin typeface="华文仿宋"/>
                <a:ea typeface="华文仿宋"/>
              </a:rPr>
              <a:t> </a:t>
            </a:r>
            <a:r>
              <a:rPr b="1" lang="zh-CN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Garamond"/>
              </a:rPr>
              <a:t>的连续函数，再利用函数的介值定理使这一问题解决得非常巧妙而简单。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初等模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215988-EDAA-4775-8883-C605E0DAA88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数学建模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0" dur="2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-302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79280" y="333000"/>
            <a:ext cx="878544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Garamond"/>
              </a:rPr>
              <a:t>          </a:t>
            </a:r>
            <a:r>
              <a:rPr b="1" lang="zh-CN" sz="4400" spc="-1" strike="noStrike">
                <a:solidFill>
                  <a:srgbClr val="ffcc00"/>
                </a:solidFill>
                <a:latin typeface="Garamond"/>
                <a:ea typeface="华文行楷"/>
              </a:rPr>
              <a:t>席位分配问题</a:t>
            </a:r>
            <a:r>
              <a:rPr b="1" lang="zh-CN" sz="3200" spc="-1" strike="noStrike">
                <a:solidFill>
                  <a:srgbClr val="ffcc00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Garamond"/>
                <a:ea typeface="华文仿宋"/>
              </a:rPr>
              <a:t>           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问题   某学院有 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200 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名学生，甲系 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103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名，乙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系 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63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名，丙系 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34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名，若学生会设 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20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个代表席位</a:t>
            </a:r>
            <a:r>
              <a:rPr b="0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，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问应如何分配席位？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若席位增加为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21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个，又如何分配？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                      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324000" y="3357720"/>
          <a:ext cx="5508360" cy="3180960"/>
        </p:xfrm>
        <a:graphic>
          <a:graphicData uri="http://schemas.openxmlformats.org/drawingml/2006/table">
            <a:tbl>
              <a:tblPr/>
              <a:tblGrid>
                <a:gridCol w="597960"/>
                <a:gridCol w="989280"/>
                <a:gridCol w="1274760"/>
                <a:gridCol w="1278000"/>
                <a:gridCol w="1368360"/>
              </a:tblGrid>
              <a:tr h="5007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学生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人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所占比例％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20</a:t>
                      </a: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个席位的分配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8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按比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分配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结果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9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乙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丙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10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6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3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51.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31.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1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10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6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3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1" name=""/>
          <p:cNvSpPr/>
          <p:nvPr/>
        </p:nvSpPr>
        <p:spPr>
          <a:xfrm>
            <a:off x="4572000" y="4869000"/>
            <a:ext cx="122400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cc00"/>
                </a:solidFill>
                <a:latin typeface="华文仿宋"/>
                <a:ea typeface="华文仿宋"/>
              </a:rPr>
              <a:t>   </a:t>
            </a:r>
            <a:r>
              <a:rPr b="1" lang="en-US" sz="2900" spc="-1" strike="noStrike">
                <a:solidFill>
                  <a:srgbClr val="ffcc00"/>
                </a:solidFill>
                <a:latin typeface="华文仿宋"/>
                <a:ea typeface="华文仿宋"/>
              </a:rPr>
              <a:t>10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cc00"/>
                </a:solidFill>
                <a:latin typeface="华文仿宋"/>
                <a:ea typeface="华文仿宋"/>
              </a:rPr>
              <a:t>    </a:t>
            </a:r>
            <a:r>
              <a:rPr b="1" lang="en-US" sz="2900" spc="-1" strike="noStrike">
                <a:solidFill>
                  <a:srgbClr val="ffcc00"/>
                </a:solidFill>
                <a:latin typeface="华文仿宋"/>
                <a:ea typeface="华文仿宋"/>
              </a:rPr>
              <a:t>6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cc00"/>
                </a:solidFill>
                <a:latin typeface="华文仿宋"/>
                <a:ea typeface="华文仿宋"/>
              </a:rPr>
              <a:t>    </a:t>
            </a:r>
            <a:r>
              <a:rPr b="1" lang="en-US" sz="2900" spc="-1" strike="noStrike">
                <a:solidFill>
                  <a:srgbClr val="ffcc00"/>
                </a:solidFill>
                <a:latin typeface="华文仿宋"/>
                <a:ea typeface="华文仿宋"/>
              </a:rPr>
              <a:t>4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5867280" y="3357720"/>
          <a:ext cx="2951280" cy="3166920"/>
        </p:xfrm>
        <a:graphic>
          <a:graphicData uri="http://schemas.openxmlformats.org/drawingml/2006/table">
            <a:tbl>
              <a:tblPr/>
              <a:tblGrid>
                <a:gridCol w="1578240"/>
                <a:gridCol w="1373040"/>
              </a:tblGrid>
              <a:tr h="539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21</a:t>
                      </a: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个席位的分配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7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按比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分配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结果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5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10.8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6.6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3.57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 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3" name=""/>
          <p:cNvSpPr/>
          <p:nvPr/>
        </p:nvSpPr>
        <p:spPr>
          <a:xfrm>
            <a:off x="7740720" y="4581360"/>
            <a:ext cx="934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740720" y="4869000"/>
            <a:ext cx="1008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华文仿宋"/>
                <a:ea typeface="华文仿宋"/>
              </a:rPr>
              <a:t> </a:t>
            </a:r>
            <a:r>
              <a:rPr b="1" lang="en-US" sz="2800" spc="-1" strike="noStrike">
                <a:solidFill>
                  <a:srgbClr val="ffcc00"/>
                </a:solidFill>
                <a:latin typeface="华文仿宋"/>
                <a:ea typeface="华文仿宋"/>
              </a:rPr>
              <a:t>1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华文仿宋"/>
                <a:ea typeface="华文仿宋"/>
              </a:rPr>
              <a:t>  </a:t>
            </a:r>
            <a:r>
              <a:rPr b="1" lang="en-US" sz="2800" spc="-1" strike="noStrike">
                <a:solidFill>
                  <a:srgbClr val="ffcc00"/>
                </a:solidFill>
                <a:latin typeface="华文仿宋"/>
                <a:ea typeface="华文仿宋"/>
              </a:rPr>
              <a:t>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华文仿宋"/>
                <a:ea typeface="华文仿宋"/>
              </a:rPr>
              <a:t>  </a:t>
            </a:r>
            <a:r>
              <a:rPr b="1" lang="en-US" sz="2800" spc="-1" strike="noStrike">
                <a:solidFill>
                  <a:srgbClr val="ffcc00"/>
                </a:solidFill>
                <a:latin typeface="华文仿宋"/>
                <a:ea typeface="华文仿宋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初等模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60C711-A5B4-4720-B47F-097709147AF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数学建模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4T02:35:06Z</dcterms:created>
  <dc:creator>wmd</dc:creator>
  <dc:description/>
  <dc:language>en-US</dc:language>
  <cp:lastModifiedBy>Wu</cp:lastModifiedBy>
  <dcterms:modified xsi:type="dcterms:W3CDTF">2010-03-08T07:17:19Z</dcterms:modified>
  <cp:revision>50</cp:revision>
  <dc:subject/>
  <dc:title>数  学  建  模</dc:title>
</cp:coreProperties>
</file>