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3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73.wmf" ContentType="image/x-wmf"/>
  <Override PartName="/ppt/media/image24.wmf" ContentType="image/x-wmf"/>
  <Override PartName="/ppt/media/image61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25.png" ContentType="image/png"/>
  <Override PartName="/ppt/media/image64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5083-1905-4588-89D7-D782B093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4C8D-F3A2-489C-B65E-07643C88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0DBB-590B-49CD-9B26-070A971D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3195-456D-4964-ACC5-0F450C1D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23AC-38C5-4A81-9B4F-A19DC546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1AE3-6D1F-43AD-BBDE-57C615B0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1BA1-D575-4B87-9521-0DC1EBC9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29D8-949D-4274-A5AD-F111AAAE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C039-2572-4B67-96B1-E79E9E83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AA63-0132-481E-9373-6417F0AC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FD03-161D-46E1-9F64-2D0E88F0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7716-2F86-4AC3-889C-A899C056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F404-2739-473B-A8E9-DC8CFB8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E1DE-2AE8-4A41-89BB-633D6209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4A46-B4DB-4A00-8952-4A50140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608C-D6AA-418B-8CFD-148238DC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2A28-B101-4509-BB78-F7EE8E9B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8A51-A71A-4E62-AB36-E7010141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6F1C-A1AB-40E7-81FA-A0F825BF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E4B9-EFFD-443D-833B-3861E1F6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9F30-A2E3-47B8-972D-07F03399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DB86-19D9-41EE-B26B-2052D8B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E6BA-2D9C-4796-9606-0B7EC31D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F711-EF6E-4E1A-9F17-9ECA4A10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9A08-951A-48E2-B60D-B12E858ED75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D4DD-66B4-41EF-8571-C4F45C98B5C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数  学  建  模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6920" y="3860640"/>
            <a:ext cx="7705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从自然走向理性之路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EEAE-B0D6-4524-975F-CBF8B7B9F02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某工厂有甲、乙、丙、丁四个车间，生产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六种产品，根据机车性能和以前的生产情况，得知生产每单位产品所需各车间的工作时数、每个车间在一个季度工作时数的上限以及产品的价格，如下表所示。问：每种产品每季度各应生产多少，才能使这个工厂每季度生产总值达到最大？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283E-9968-4E96-B627-25B27E5AD2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765000"/>
          <a:ext cx="9144000" cy="4419720"/>
        </p:xfrm>
        <a:graphic>
          <a:graphicData uri="http://schemas.openxmlformats.org/drawingml/2006/table">
            <a:tbl>
              <a:tblPr/>
              <a:tblGrid>
                <a:gridCol w="1979640"/>
                <a:gridCol w="792000"/>
                <a:gridCol w="720720"/>
                <a:gridCol w="792360"/>
                <a:gridCol w="792000"/>
                <a:gridCol w="863640"/>
                <a:gridCol w="863640"/>
                <a:gridCol w="234000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      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产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车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每个车间每季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工作时数上限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30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单价（元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4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3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7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6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0.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9A4C-60B3-4C22-875F-8269D34522C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解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]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以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~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分别表示每季度生产产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单位数，于是它们需满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目标函数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70040" y="1484280"/>
          <a:ext cx="580392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0040" y="1484280"/>
                    <a:ext cx="580392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49400" y="4118040"/>
          <a:ext cx="294012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118040"/>
                    <a:ext cx="29401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26920" y="5373720"/>
          <a:ext cx="7705800" cy="5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5373720"/>
                    <a:ext cx="77058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8E52-C375-403C-A0F0-765294B9F7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引入松弛变量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~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0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化成标准型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19000" y="1476360"/>
          <a:ext cx="77947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476360"/>
                    <a:ext cx="77947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00000" y="2349360"/>
          <a:ext cx="72723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349360"/>
                    <a:ext cx="7272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771640" y="5013360"/>
          <a:ext cx="34560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5013360"/>
                    <a:ext cx="3456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FB94-76EB-4B16-B1B0-85A41D336D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仿宋"/>
              </a:rPr>
              <a:t>    </a:t>
            </a:r>
            <a:r>
              <a:rPr b="1" lang="zh-CN" sz="32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线性规划问题求解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可行域几何特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满足约束条件的解称为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可行解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所有可行解构成的集合称为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可行域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满足目标式的可行解称为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最优解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线性规划问题的可行域是一个凸多边形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线性规划问题如果存在最优解，则最优解必在可行域的顶点处达到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0D2B-2D7F-4EB9-AB3B-5753A19A19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单纯形法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基本思想：从可行域的一个顶点（基本可行解）出发，转换到另一个顶点，并且使目标函数值逐步减小，有限步后可得到最优解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E2E3-8EBF-4D0C-AE7F-6BF4FD5C5C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仿宋"/>
              </a:rPr>
              <a:t>    </a:t>
            </a:r>
            <a:r>
              <a:rPr b="1" lang="zh-CN" sz="36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整数规划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自变量取整数的线性规划称为整数（线性）规划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割平面法，分支定界法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C689-FFE6-4A5F-ACD4-23A12E491D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5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       </a:t>
            </a:r>
            <a:r>
              <a:rPr b="1" lang="zh-CN" sz="28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0</a:t>
            </a:r>
            <a:r>
              <a:rPr b="1" lang="zh-CN" sz="28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－</a:t>
            </a:r>
            <a:r>
              <a:rPr b="1" lang="zh-CN" sz="28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1</a:t>
            </a:r>
            <a:r>
              <a:rPr b="1" lang="zh-CN" sz="28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规划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MCM-88B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要把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不同规格的包装箱装到两辆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路平板车上去，各包装箱宽、高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均相同，但厚度（厘米）与重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公斤）不同。下表给出各包装箱的厚度、重量及数量。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辆平板车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.2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米长的地方可用来装包装箱，载重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40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吨。由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于当地货运限制，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C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 C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 C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类包装箱总数有一个特别限制：该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类箱子总厚度不超过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302.7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厘米）。试把包装箱装到平板车上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使得浪费空间最小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442764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2D6E-7EA8-42A1-8837-6C304A265B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8360" y="549360"/>
          <a:ext cx="8229600" cy="27352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厚度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8.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2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1.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2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8.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2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4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重量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件数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0" y="350028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问题分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题中所有的包装箱共重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89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吨，而两辆平板车只能载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吨，因此不能都装下，问题是装哪些箱子，使剩余空间最小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B75F-4A91-4E2F-B59E-CCB86F93D6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.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模型建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第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辆车装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C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类箱子的个数，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1,2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1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…,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自然约束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箱数约束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重量约束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厚度约束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特别约束：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771640" y="2060640"/>
          <a:ext cx="178128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060640"/>
                    <a:ext cx="17812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411280" y="2781360"/>
          <a:ext cx="583272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781360"/>
                    <a:ext cx="58327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195640" y="3645000"/>
          <a:ext cx="680076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3645000"/>
                    <a:ext cx="680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40000" y="4437000"/>
          <a:ext cx="554508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4437000"/>
                    <a:ext cx="554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460600" y="5589720"/>
          <a:ext cx="59500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60600" y="5589720"/>
                    <a:ext cx="595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585F-4E29-433E-B163-BD07ECF5B1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8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五讲  </a:t>
            </a:r>
            <a:r>
              <a:rPr b="1" lang="zh-CN" sz="4800" spc="-1" strike="noStrike">
                <a:solidFill>
                  <a:srgbClr val="e5e5ff"/>
                </a:solidFill>
                <a:latin typeface="Garamond"/>
                <a:ea typeface="黑体"/>
              </a:rPr>
              <a:t>规划模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【主要内容】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介绍线性规划模型、非线性规划模型及动态规划模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【主要目的】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了解规划问题的建模与求解，重点在模型的建立与结果的分析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1A78-9B6D-47CA-9A61-EEF78E1D1A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目标函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分工问题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某车间有四项工作需要完成，现已找到四个人做这些工作，经过试用，得到这四个人做每一项工作的相对生产率指数，列表如下 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假定每个人只能分派一项工作，并希望分派后总的生产率最高，应如何分派工作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268280"/>
          <a:ext cx="896472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896472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0A35-2AB3-4BF6-9FBB-082164D7C49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6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5280" y="404640"/>
          <a:ext cx="7488360" cy="3279600"/>
        </p:xfrm>
        <a:graphic>
          <a:graphicData uri="http://schemas.openxmlformats.org/drawingml/2006/table">
            <a:tbl>
              <a:tblPr/>
              <a:tblGrid>
                <a:gridCol w="1855800"/>
                <a:gridCol w="1403280"/>
                <a:gridCol w="1432080"/>
                <a:gridCol w="1360440"/>
                <a:gridCol w="1436760"/>
              </a:tblGrid>
              <a:tr h="90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工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人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76360" y="4365720"/>
          <a:ext cx="5267520" cy="10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365720"/>
                    <a:ext cx="526752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D601-26EB-4441-8573-A92BEC3F5A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个人做一项工作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项工作有一人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目标函数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780000" y="549360"/>
          <a:ext cx="435276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549360"/>
                    <a:ext cx="43527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708360" y="1916280"/>
          <a:ext cx="442764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916280"/>
                    <a:ext cx="44276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76120" y="4797360"/>
          <a:ext cx="858996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120" y="4797360"/>
                    <a:ext cx="85899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7259-B5EA-4338-B302-B1CF1A7189A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200"/>
                            </p:stCondLst>
                            <p:childTnLst>
                              <p:par>
                                <p:cTn id="5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非线性规划模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(Nonlinear Programming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飞行管理问题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UMCM95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高空中一个边长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6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公里的正方形区域内，经常有若干架飞机作水平飞行。区域内每架飞机的位置和速度均由计算机记录其数据。当一架欲进入该区域的飞机到达区域边缘时，要立即计算并判断其是否会与区域内的飞机碰撞。如果会碰撞，则要计算如何调整各架（包括新进入的）飞机飞行的方向角，以避免碰撞。现假定条件如下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F51E-9A44-4210-83FB-68E437E81B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不碰撞的标准为任意两架飞机的距离大于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公里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每架飞机飞行方向角调整的幅度不应超过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度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所有飞机飞行速度均为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800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公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小时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欲进入飞机在到达区域边缘时，与区域内飞机的距离应在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60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公里以上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最多需考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架飞机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不必考虑飞机离开此区域后的状况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请你建立数学模型，对以下数据进行计算（方向角误差不超过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0.0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度），要求飞机飞行方向角调整的幅度尽量小。（数据略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BAB7-41EC-43BA-A05B-045126BA6CF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0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5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0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5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0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0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模型建立与求解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模型一：设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架飞机在调整时的 方向角为</a:t>
            </a:r>
            <a:r>
              <a:rPr b="1" i="1" lang="el-GR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θ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调整角度为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i="1" lang="el-GR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θ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el-GR" sz="28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设任意两架飞机在区域内的最短距离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θ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 </a:t>
            </a:r>
            <a:r>
              <a:rPr b="1" i="1" lang="el-GR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θ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那么问题的非线性规划模型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203640" y="2637000"/>
          <a:ext cx="208908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637000"/>
                    <a:ext cx="208908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403280" y="4005360"/>
          <a:ext cx="619308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005360"/>
                    <a:ext cx="61930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564000" y="5013360"/>
          <a:ext cx="165564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5013360"/>
                    <a:ext cx="1655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7392-38FA-4047-A398-C9B60BE233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解法：能量梯度法、惩罚函数法、序列无约束最小 化方法、逐步逼近搜索法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模型二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模型三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851280" y="2133720"/>
          <a:ext cx="20890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20890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2484360" y="3284640"/>
            <a:ext cx="6659640" cy="31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1936-1996-4976-8C65-875F22276E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896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利用相对运动的方法得到以上模型，再简化为线性规划问题求解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492360" y="692280"/>
          <a:ext cx="1584360" cy="43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692280"/>
                    <a:ext cx="15843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476360" y="1484280"/>
          <a:ext cx="568800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484280"/>
                    <a:ext cx="568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851280" y="2637000"/>
          <a:ext cx="144144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2637000"/>
                    <a:ext cx="14414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708360" y="2637000"/>
          <a:ext cx="12240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2637000"/>
                    <a:ext cx="1224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708360" y="3500280"/>
          <a:ext cx="195120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3500280"/>
                    <a:ext cx="19512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3564000" y="4365720"/>
          <a:ext cx="23032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365720"/>
                    <a:ext cx="2303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54D8-9E02-4A44-83C0-6EC9F77741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2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动态规划模型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(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Dynamic Programming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动态规划是解决多阶段决策过程最优化的一种方法。多阶段决策问题，是指一个问题可以分为若干个阶段， 每一阶段需要做出决策，而一个阶段的决策，常常会影响下一个阶段的决策。要在各个阶段决定一个最优决策， 使整个系统达到最佳的效果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通过以下一个典型例子，说明如何建立动态规划模型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E2D4-0B52-4604-B61F-FB6EF9B7BCB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 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线问题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32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2501-4DC9-45C0-99B0-7A43479A55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华文行楷"/>
                <a:ea typeface="华文行楷"/>
              </a:rPr>
              <a:t>线性规划模型</a:t>
            </a: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Linear Programming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仿宋"/>
              </a:rPr>
              <a:t>       </a:t>
            </a:r>
            <a:r>
              <a:rPr b="1" lang="zh-CN" sz="3200" spc="-1" strike="noStrike" u="sng">
                <a:solidFill>
                  <a:srgbClr val="ffcc00"/>
                </a:solidFill>
                <a:uFillTx/>
                <a:latin typeface="Garamond"/>
                <a:ea typeface="华文仿宋"/>
              </a:rPr>
              <a:t>建立模型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线性规划问题：求多变量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线性函数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线性约束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条件下的最优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线性规划问题的一般形式：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03640" y="3860640"/>
          <a:ext cx="273672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860640"/>
                    <a:ext cx="2736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4797360"/>
          <a:ext cx="6802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6802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344760" y="5877000"/>
          <a:ext cx="29606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4760" y="5877000"/>
                    <a:ext cx="2960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6BCE-21ED-49EA-B49E-FF157F8F4E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先引入几个概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状态——每一阶段的起点位置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决策——由一个状态变到另一个状态的选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第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阶段的状态，称为状态变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u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——从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出发所作出的决策，称为决策变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——第 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阶段中所有允许决策的集合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状态转移方程——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+1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u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u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——从状态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出发，采取决策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u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转移到状态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+1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效益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——从状态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出发到终点的最优效益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4034-F2BE-4E17-B83D-4D00B9C079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886e0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最短路问题的动态规划最优化原理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假设一条最短路线经过状态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那么，这条路线上从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到终点的一段，是从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出发到终点的所有路线中最短的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逆序法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回溯法）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从后向前逐步求出各点到终点的最佳路线，最后得到由起点到终点的最短路线。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776C-F570-4D2A-8A82-6696083037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问题的动态规划模型，归纳为下述递推公式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①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从最后一段开始，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4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,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有三个状态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②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3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有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状态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 1,2,3,4 .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每个状态有两个决策可选择。分别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计算各状态出发到终点的效益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：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68360" y="1484280"/>
          <a:ext cx="820728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20728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340000" y="4149720"/>
          <a:ext cx="47530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149720"/>
                    <a:ext cx="4753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D7E5-C505-4E56-B203-04D17BBD4A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8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7" dur="10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332000" y="620640"/>
          <a:ext cx="63356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20640"/>
                    <a:ext cx="63356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32000" y="2060640"/>
          <a:ext cx="296856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2060640"/>
                    <a:ext cx="2968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916360" y="2852640"/>
          <a:ext cx="287964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2852640"/>
                    <a:ext cx="28796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32000" y="3573360"/>
          <a:ext cx="640872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573360"/>
                    <a:ext cx="6408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58920" y="4797360"/>
          <a:ext cx="3060720" cy="4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4797360"/>
                    <a:ext cx="3060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987640" y="5589720"/>
          <a:ext cx="259236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87640" y="5589720"/>
                    <a:ext cx="25923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4239-0FD2-492A-9D35-E01CBF6EFB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619280" y="476280"/>
          <a:ext cx="6048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76280"/>
                    <a:ext cx="6048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619280" y="1844640"/>
          <a:ext cx="53960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844640"/>
                    <a:ext cx="53960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224080" y="2708280"/>
          <a:ext cx="534024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4080" y="2708280"/>
                    <a:ext cx="53402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19280" y="3573360"/>
          <a:ext cx="619272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3573360"/>
                    <a:ext cx="6192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19280" y="4797360"/>
          <a:ext cx="39607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9280" y="4797360"/>
                    <a:ext cx="3960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478320" y="5589720"/>
          <a:ext cx="237492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78320" y="5589720"/>
                    <a:ext cx="2374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8DC0-3F2E-4422-9C17-B6069ECEB8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③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= 2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有两个状态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B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,B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每个状态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决策可选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403280" y="1341360"/>
          <a:ext cx="61214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341360"/>
                    <a:ext cx="61214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476360" y="2852640"/>
          <a:ext cx="324180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852640"/>
                    <a:ext cx="3241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627280" y="3441600"/>
          <a:ext cx="2736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3441600"/>
                    <a:ext cx="2736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58920" y="4076640"/>
          <a:ext cx="6264360" cy="129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076640"/>
                    <a:ext cx="626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488960" y="5805360"/>
          <a:ext cx="530244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88960" y="5805360"/>
                    <a:ext cx="53024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6838-74D4-4142-BD5C-756F84772C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或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④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路径长为：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916360" y="476280"/>
          <a:ext cx="324000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76280"/>
                    <a:ext cx="32400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916360" y="1268280"/>
          <a:ext cx="324000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1268280"/>
                    <a:ext cx="3240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763640" y="2421000"/>
          <a:ext cx="604836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2421000"/>
                    <a:ext cx="6048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124000" y="3716280"/>
          <a:ext cx="367200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3716280"/>
                    <a:ext cx="3672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627280" y="4653000"/>
          <a:ext cx="29512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4653000"/>
                    <a:ext cx="2951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7073-1FE1-45D8-A9BD-3C618D641C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500"/>
                            </p:stCondLst>
                            <p:childTnLst>
                              <p:par>
                                <p:cTn id="9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  </a:t>
            </a:r>
            <a:r>
              <a:rPr b="1" lang="zh-CN" sz="3600" spc="-1" strike="noStrike">
                <a:solidFill>
                  <a:srgbClr val="ffcc00"/>
                </a:solidFill>
                <a:latin typeface="华文仿宋"/>
                <a:ea typeface="华文仿宋"/>
              </a:rPr>
              <a:t>Bellman </a:t>
            </a:r>
            <a:r>
              <a:rPr b="1" lang="zh-CN" sz="3600" spc="-1" strike="noStrike">
                <a:solidFill>
                  <a:srgbClr val="ffcc00"/>
                </a:solidFill>
                <a:latin typeface="华文仿宋"/>
                <a:ea typeface="华文仿宋"/>
              </a:rPr>
              <a:t>动态规划最优化原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整个过程的最优策略应具有性质：无论过去的状态和决策如何，对当前状态而言，余下的诸决策必须构成最优策略。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0E92-6642-4CE4-9D3F-A7EFA2858B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动态规划的特点是将问题按时间或空间特征而分成若干个阶段，从而将整个决策过程转化为多阶段的决策问题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对某些静态决策问题可以引入时间因素，将问题转化为多阶段的决策问题，然后利用动态规划方法求解。以上最短路问题的解决就是这样的一个例子，以下再举一个例子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34ED-57A8-416D-B494-589857BADB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资源分配问题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有某种资源总数量为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用于生产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产品。如果分配数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用于生产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产品，其效益为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问应如何分配资源使生产总效益最大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静态模型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1397160"/>
            <a:ext cx="60962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050920" y="3716280"/>
          <a:ext cx="460872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716280"/>
                    <a:ext cx="4608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2702-5A57-4DB9-A1BA-1DE78DCDB5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线性规划问题的标准形式：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仿宋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56000" y="1341360"/>
          <a:ext cx="374472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3744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11280" y="2759040"/>
          <a:ext cx="607680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759040"/>
                    <a:ext cx="60768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627280" y="4365720"/>
          <a:ext cx="2960640" cy="71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4365720"/>
                    <a:ext cx="29606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8012-A379-482D-82DA-6863E8CD77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非线性规划问题，应用动态规划方法求解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令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表示分配用于生产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至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种产品的资源数量，即状态转移方程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＋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＝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－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＝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a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＋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＝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，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为最大效益。则逆序递推方程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50920" y="3608280"/>
          <a:ext cx="8893080" cy="15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608280"/>
                    <a:ext cx="889308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81C7-3E9B-4EA5-9F62-81EAE1A1BFF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cc00"/>
                </a:solidFill>
                <a:latin typeface="Edwardian Script ITC"/>
              </a:rPr>
              <a:t>     </a:t>
            </a:r>
            <a:r>
              <a:rPr b="0" lang="en-US" sz="10000" spc="-1" strike="noStrike">
                <a:solidFill>
                  <a:srgbClr val="ffcc00"/>
                </a:solidFill>
                <a:latin typeface="华文行楷"/>
                <a:ea typeface="华文行楷"/>
              </a:rPr>
              <a:t>Thanks !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8677-E554-4D3B-9BD4-D7A09281464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[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说明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]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任意线性规划问题可化为标准形式。具体方式如下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目标函数标准化 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约束条件标准化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假设约束条件中有不等式约束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引入新变量            （称为松弛变量），则以上两式等价于以下两式：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0" y="1628640"/>
          <a:ext cx="25192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28640"/>
                    <a:ext cx="2519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84360" y="3429000"/>
          <a:ext cx="354672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3429000"/>
                    <a:ext cx="3546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484360" y="4005360"/>
          <a:ext cx="352764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4005360"/>
                    <a:ext cx="35276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32000" y="4724280"/>
          <a:ext cx="155268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724280"/>
                    <a:ext cx="1552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77EC-FC5F-44BF-BAD6-9BFFCDE674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自由变量标准化： 若变量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无约束，可引入两个新变量             ，令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故以下我们只考虑标准形式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63640" y="476280"/>
          <a:ext cx="5904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76280"/>
                    <a:ext cx="5904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35280" y="1484280"/>
          <a:ext cx="59054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484280"/>
                    <a:ext cx="59054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95640" y="3284640"/>
          <a:ext cx="1440000" cy="64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3284640"/>
                    <a:ext cx="1440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195640" y="4292640"/>
          <a:ext cx="42717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4292640"/>
                    <a:ext cx="4271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FB41-D82D-4BB5-90ED-96D115BF4E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矩阵形式表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一般要求，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03640" y="549360"/>
          <a:ext cx="237636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549360"/>
                    <a:ext cx="2376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835280" y="1484280"/>
          <a:ext cx="27892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484280"/>
                    <a:ext cx="2789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276720" y="2349360"/>
          <a:ext cx="10080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349360"/>
                    <a:ext cx="1008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11600" y="2995560"/>
          <a:ext cx="30146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1600" y="2995560"/>
                    <a:ext cx="3014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ED3C-72CA-465E-8E12-7A54A7CC84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某工厂制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两种产品，制造产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吨需用煤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吨，用电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千瓦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工作日；制造产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吨需用煤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吨，用电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千瓦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工作日。已知制造产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吨分别获利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700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元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200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元。现该厂只有煤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6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吨，电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0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千瓦，工作日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0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可以利用，问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两种产品各应生产多少吨才能获利最大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[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解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]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分别表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 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两种产品的计划生产数（单位：吨）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表示利润（单位：千元），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 7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12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1B55-E7E4-4EEF-AA86-A6E04A23BB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耗煤量为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5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耗电量为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5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耗工作日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10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于是得到线性规划模型为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916360" y="3068640"/>
          <a:ext cx="30002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068640"/>
                    <a:ext cx="30002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00000" y="3860640"/>
          <a:ext cx="5210280" cy="223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860640"/>
                    <a:ext cx="52102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规划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5B9F-CFF4-44A8-99FB-20D7717A31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2:35:06Z</dcterms:created>
  <dc:creator>wmd</dc:creator>
  <dc:description/>
  <dc:language>en-US</dc:language>
  <cp:lastModifiedBy>秋　风　辞</cp:lastModifiedBy>
  <dcterms:modified xsi:type="dcterms:W3CDTF">2008-03-24T07:30:11Z</dcterms:modified>
  <cp:revision>73</cp:revision>
  <dc:subject/>
  <dc:title>数  学  建  模</dc:title>
</cp:coreProperties>
</file>