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11.wmf" ContentType="image/x-wmf"/>
  <Override PartName="/ppt/media/image26.png" ContentType="image/png"/>
  <Override PartName="/ppt/media/image4.png" ContentType="image/png"/>
  <Override PartName="/ppt/media/image12.wmf" ContentType="image/x-wmf"/>
  <Override PartName="/ppt/media/image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png" ContentType="image/png"/>
  <Override PartName="/ppt/media/image10.wmf" ContentType="image/x-wmf"/>
  <Override PartName="/ppt/media/image2.png" ContentType="image/png"/>
  <Override PartName="/ppt/media/image30.wmf" ContentType="image/x-wmf"/>
  <Override PartName="/ppt/media/image31.wmf" ContentType="image/x-wmf"/>
  <Override PartName="/ppt/media/image6.wmf" ContentType="image/x-wmf"/>
  <Override PartName="/ppt/media/image3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png" ContentType="image/png"/>
  <Override PartName="/ppt/media/image19.png" ContentType="image/png"/>
  <Override PartName="/ppt/media/image18.wmf" ContentType="image/x-wmf"/>
  <Override PartName="/ppt/media/image20.png" ContentType="image/png"/>
  <Override PartName="/ppt/media/image21.wmf" ContentType="image/x-wmf"/>
  <Override PartName="/ppt/media/image22.png" ContentType="image/png"/>
  <Override PartName="/ppt/media/image23.wmf" ContentType="image/x-wmf"/>
  <Override PartName="/ppt/media/image24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CB37E-E787-42C1-A66D-90207475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F0E69-0E23-4BDB-895C-96BC0D35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1065C-5AF8-4F36-A4D3-DE1BBB26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F1B3C-D1E5-4B84-A81B-8823B27E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D194-7710-4360-9E0E-EC36BA72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4971-03C4-45A9-9584-ACF75948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E71C-3091-4E3D-8DBE-E5D354A7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CA85-ED46-44C0-81E4-A595AF9A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BEA2-2432-4491-B1FB-2EF03E6F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C643-B90A-4960-8E5E-4A92530C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30A2-23FC-41F6-954E-E2535F39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84837-3D46-4E89-AACA-8E682EC9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D720-8952-4EC5-A032-B982A188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62E3-1AA1-4707-B699-925ABEEE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FB50-CE3C-4A22-9E95-2676329E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66AD-B0C8-4F24-9A28-380268F6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CED9-0DE6-462A-9D16-D73125CD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FB8C3-BF60-472B-8549-624D92B6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BCC91-11BB-42CE-BFAE-3B0F2B56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CA69D-8D51-4A7F-9AE8-76CB0A26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96908-13CB-409C-ADFC-B2B8A2BD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E08C5-C782-40CE-8FB0-D274D80A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79EDB-A5B4-48B2-B762-FB8788A8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D0A8F-588B-4C71-A388-4C27FFB6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5BEA-5E9F-4293-AACC-7C26DDA7F6AE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2A5D-2DE9-472B-8F03-C9FFC768776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85327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数  学  建  模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6920" y="3860640"/>
            <a:ext cx="7705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zh-CN" sz="4000" spc="-1" strike="noStrike">
                <a:solidFill>
                  <a:srgbClr val="ffffff"/>
                </a:solidFill>
                <a:latin typeface="Garamond"/>
              </a:rPr>
              <a:t>——</a:t>
            </a:r>
            <a:r>
              <a:rPr b="0" lang="zh-CN" sz="4000" spc="-1" strike="noStrike">
                <a:solidFill>
                  <a:srgbClr val="ffffff"/>
                </a:solidFill>
                <a:latin typeface="Garamond"/>
              </a:rPr>
              <a:t>从自然走向理性之路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09CB-63AB-436B-9843-CA0CF967972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468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⑤  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令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(3) = 22 ,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即给结点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永久性标号为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22.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⑥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(4) = min {T(4) , P(3)+d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3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} = min {30, 22+17} = 3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(5) = min {T(5) , P(3)+d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3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} = min {41, 22+23} =4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(6) = min {T(6) , P(3)+d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3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} = min {57, 22+31} = 5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只有结点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改变了临时标号，令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RIOR( 6 ) = 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⑦ 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令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(4) = 30 ,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即给结点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永久性标号为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30.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⑧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(5) = min {T(5) , P(4)+d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4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} = min {41, 30+17} =4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(6) = min {T(6) , P(4)+d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4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} = min {53, 30+23} = 5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RIOR( 6 ) = 3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或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⑨  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令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(5) = 41 ,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即给结点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永久性标号为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41.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⑩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(6) = min {T(6) , P(5)+d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5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} = min {53, 41+18} = 5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所以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(6) = 5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最短路径为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1→3 →6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 或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1→4→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C2E17-05AD-434D-A63A-4DD413128C3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2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5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8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3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8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3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6" dur="1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" dur="1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" dur="1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1" dur="1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" dur="1000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再来看开始的最短路线问题的例子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获得永久性标号的顶点顺序为：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B2(A) , B1(A) , C1(B1) , C2(B1), C4(B2), C3(B2), D1(C2),  D2(C2), D3(C3\C4),  E(D1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故最短路径为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A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→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B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→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C2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→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D1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→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5905440" cy="31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94E04-CD4C-41BE-A5F0-68BAC4D134B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3" dur="1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" dur="10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3" dur="1000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Garamond"/>
                <a:ea typeface="华文仿宋"/>
              </a:rPr>
              <a:t>             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  <a:ea typeface="华文仿宋"/>
              </a:rPr>
              <a:t>Ford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  <a:ea typeface="华文仿宋"/>
              </a:rPr>
              <a:t>算法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动态规划法与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Dijkstr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算法，都假定弧的长度是非负的，但在某些问题中，有时会出现长度为负值的情况，可采用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Ford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算法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称临时标号为未着色标号，永久性标号为着色标号。所谓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Ford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算法，只要对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Dijkstr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算法做两点改变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Garamond"/>
              </a:rPr>
              <a:t>◆</a:t>
            </a:r>
            <a:r>
              <a:rPr b="1" lang="zh-CN" sz="18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计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( j ) =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min {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( j ) , P(k)+d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j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}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时，不仅对未着色点    进行，对着色点也要进行。已着色标号也可以减小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Garamond"/>
              </a:rPr>
              <a:t>◆</a:t>
            </a:r>
            <a:r>
              <a:rPr b="1" lang="zh-CN" sz="18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仅在所有顶点都已着色，而且下一步不能使任一顶点的标号减小时，算法才终止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67C37-85D9-4DCD-9C15-CF962702314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5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0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Garamond"/>
                <a:ea typeface="华文行楷"/>
              </a:rPr>
              <a:t>     </a:t>
            </a:r>
            <a:r>
              <a:rPr b="1" lang="zh-CN" sz="4400" spc="-1" strike="noStrike">
                <a:solidFill>
                  <a:srgbClr val="ffcc00"/>
                </a:solidFill>
                <a:latin typeface="Garamond"/>
                <a:ea typeface="华文行楷"/>
              </a:rPr>
              <a:t>最大流问题及其算法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最大流问题是网络理论中的一个经典问题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12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有向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N=(V,A,C)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C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Garamond"/>
                <a:ea typeface="华文仿宋"/>
              </a:rPr>
              <a:t>ij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(&gt;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12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为弧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(i ,j)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上的容量（道路最大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12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过量，管道最大流量，送电线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12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最大送电量）。假定在网络中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12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点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s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处有大批货物要通过网络运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12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送到另一点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t.  s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称为网络的源，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t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称为网络的汇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076720" y="1700280"/>
            <a:ext cx="4067280" cy="31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BDCB4-3DAC-4A96-96DA-E728994178E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一个物质运输方案，为定义在弧集合上的一个函数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  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 , j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满足：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    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（流平衡条件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                                              （容量限制条件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此时称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为一个可行流。                        称为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的流量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上流量最大的可行流称为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的最大流。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556000" y="1989000"/>
          <a:ext cx="352872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989000"/>
                    <a:ext cx="35287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54240" y="2906640"/>
          <a:ext cx="2530440" cy="5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4240" y="2906640"/>
                    <a:ext cx="25304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95640" y="3573360"/>
          <a:ext cx="172584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95640" y="3573360"/>
                    <a:ext cx="17258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F4142-65B2-4C7F-A727-B94F46EE51E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0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2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设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为一个可行流，若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0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，称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 , j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为零弧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若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C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，称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 , j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为饱和弧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一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以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为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起点，以</a:t>
            </a:r>
            <a:r>
              <a:rPr b="1" i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</a:t>
            </a:r>
            <a:r>
              <a:rPr b="1" i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为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终点的路，如果它的前向弧都不是饱和弧，后向弧都不是零弧，则称它为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  <a:ea typeface="华文仿宋"/>
              </a:rPr>
              <a:t>增广路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  <a:ea typeface="华文仿宋"/>
              </a:rPr>
              <a:t>如果可行流 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  <a:ea typeface="华文仿宋"/>
              </a:rPr>
              <a:t>有增广路，那么 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  <a:ea typeface="华文仿宋"/>
              </a:rPr>
              <a:t>不是最大流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143000" y="3789360"/>
            <a:ext cx="6669000" cy="25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E14D4-FCE7-4B65-989C-3F74194730C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32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8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若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P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是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增广路，记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P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的前向弧集合为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A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，后向弧集合为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A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令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由增广路的定义知，</a:t>
            </a:r>
            <a:r>
              <a:rPr b="1" i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δ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&gt;0 .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定理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增广路定理）设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是网络的可行流，则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是最大流，当且仅当不存在关于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的增广路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268360" y="1413000"/>
          <a:ext cx="3571920" cy="6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413000"/>
                    <a:ext cx="357192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268360" y="2276640"/>
          <a:ext cx="355932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2276640"/>
                    <a:ext cx="355932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611440" y="3240000"/>
          <a:ext cx="2482920" cy="60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11440" y="3240000"/>
                    <a:ext cx="248292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2FA90-190B-4E9F-AA39-381235E2F09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5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3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8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定理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2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整数定理）若弧容量都是正整数，则一定存在一个整数最大流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最大流的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Ford-Fulkerson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算法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基本步骤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tep 0 :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求出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N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的一个可行流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tep 1 :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求一条关于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的增广路，转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tep 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若没有增广路，则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是最大流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top.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tep 2 :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求出增广路的</a:t>
            </a:r>
            <a:r>
              <a:rPr b="1" i="1" lang="el-GR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δ</a:t>
            </a:r>
            <a:r>
              <a:rPr b="1" i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值，并对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进行增广得到新的可行流，转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tep 1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BDCF6-F53B-4969-BC7B-A032C82A2F6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5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1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6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9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4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算法的关键是求增广路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标号法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tep 0 :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任意求出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的一个可行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{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}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通常取零流。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tep 1 :   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求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增广路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Garamond"/>
              </a:rPr>
              <a:t>1.0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给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以标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P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且</a:t>
            </a:r>
            <a:r>
              <a:rPr b="1" i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δ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(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s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) =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∞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规定</a:t>
            </a:r>
            <a:r>
              <a:rPr b="1" i="1" lang="zh-CN" sz="3600" spc="-1" strike="noStrike">
                <a:solidFill>
                  <a:srgbClr val="ffffff"/>
                </a:solidFill>
                <a:latin typeface="华文仿宋"/>
                <a:ea typeface="华文仿宋"/>
              </a:rPr>
              <a:t>s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为未检查顶点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仿宋"/>
              </a:rPr>
              <a:t>1.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如果所有已标号顶点都已检查过，转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tep 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否则，任取一个已标号未检查顶点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v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检查所有与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v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关联的弧。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3477A-E03B-4A46-8DF2-AA731F3BC37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1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6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1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6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9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对前向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i , j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),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如果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v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j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未标号，且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&lt;  C 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给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v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标号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P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 ,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并令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（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i , j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),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上可增加的流量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对后向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j 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如果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v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j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未标号，且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ji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&gt;0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给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v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标号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P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－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 ,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并令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（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j, 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,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上可减少的流量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当所有与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v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关联的弧都检查完毕，称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v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已检查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Garamond"/>
                <a:ea typeface="华文仿宋"/>
              </a:rPr>
              <a:t>1.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如果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已经得到标号，则一条增广路已经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到，转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Step 2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；否则，返回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1.1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。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708360" y="2852640"/>
          <a:ext cx="296388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852640"/>
                    <a:ext cx="29638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708360" y="1052640"/>
          <a:ext cx="316872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1052640"/>
                    <a:ext cx="316872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08077-483D-427F-A2AB-68ADAB3CA0A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6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6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1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1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6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1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4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第六讲  网络模型与统筹模型</a:t>
            </a: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【主要内容】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介绍网络模型中的最短路算法及最大流算法，统筹模型中的关键轨道方法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【主要目的】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了解基本网络模型的算法及其应用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50B42-822B-4CE2-9E6F-84AA5A603D3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tep 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：（修改增广路上的流值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在增广路上，对前向弧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i , j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),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令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对后向弧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j 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令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tep 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：（结束）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{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}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是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中的最大流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059280" y="1844640"/>
          <a:ext cx="20271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844640"/>
                    <a:ext cx="20271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276720" y="3357720"/>
          <a:ext cx="174456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357720"/>
                    <a:ext cx="174456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4F62A-8D98-46AF-B1E7-83686934AB3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1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6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6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86" dur="1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121440" cy="2737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3405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标号顺序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24720" y="32122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916360" y="3213000"/>
          <a:ext cx="335268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3213000"/>
                    <a:ext cx="33526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900000" y="4365720"/>
            <a:ext cx="7488360" cy="208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B3853-A574-4A5D-A6EE-8B9E089C1B7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8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Garamond"/>
                <a:ea typeface="华文行楷"/>
              </a:rPr>
              <a:t>统 筹 模 型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统筹方法是运筹学的重要内容。所谓统筹，就是对工业、农业、科学研究等各项实际活动，按照总的任务预定目标，例如完成最快，开支最省等，对各个相关因素进行统一筹划，合理安排，使得预定任务能最有效的完成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4406B-099D-4073-8EA3-F7829C56086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PERT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网络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—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规划评审技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rogram Evaluation and Review Techniqu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一项任务通常可分成若干个独立的子任务，这些子任务称为</a:t>
            </a:r>
            <a:r>
              <a:rPr b="1" lang="zh-CN" sz="2400" spc="-1" strike="noStrike">
                <a:solidFill>
                  <a:srgbClr val="eec6b0"/>
                </a:solidFill>
                <a:latin typeface="Garamond"/>
                <a:ea typeface="华文仿宋"/>
              </a:rPr>
              <a:t>工序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。一般情况下，不同工序都存在先后顺序，每道工序所需的时间也未必相同。可用一个有向图来描述完成任务的过程：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 ①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以一条有向边来表示一道工序，有向边上的权为此工序的（时间）长度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 ②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有向边的起点与终点分别表示相应工序的开工与完工时间结点，称为</a:t>
            </a:r>
            <a:r>
              <a:rPr b="1" lang="zh-CN" sz="2400" spc="-1" strike="noStrike">
                <a:solidFill>
                  <a:srgbClr val="eec6b0"/>
                </a:solidFill>
                <a:latin typeface="Garamond"/>
                <a:ea typeface="华文仿宋"/>
              </a:rPr>
              <a:t>事项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 ③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前一工序的完工时间即为下一工序的开工时间。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9D566-7371-4C2C-BF3E-0D3FA7D5F20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500"/>
                            </p:stCondLst>
                            <p:childTnLst>
                              <p:par>
                                <p:cTn id="72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PERT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网络是有向图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G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V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E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），满足以下条件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①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V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中存在起始顶点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s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与终止顶点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t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②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G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中无有向回路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③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对于任意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v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є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V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，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v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在某条从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s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到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t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的有向道路上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Garamond"/>
                <a:ea typeface="华文仿宋"/>
              </a:rPr>
              <a:t>例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Garamond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十项工序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a, b, …, m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87280" y="3860640"/>
            <a:ext cx="6553440" cy="25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46939-28D5-4557-B5CA-503DCE70A65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6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为叙述方便，引入几个参数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 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j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—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结点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的最早可能实现时间，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S 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—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工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 , j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的最早可能开始时间，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    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S 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T 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 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—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工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 , j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的最早可能结束时间，即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 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S 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+ 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T 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 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54320" y="1990800"/>
          <a:ext cx="370044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4320" y="1990800"/>
                    <a:ext cx="370044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9F04F-CAA1-4ADF-9706-76E9277914B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8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3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02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6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1" dur="1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5" dur="1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Garamond"/>
                <a:ea typeface="华文仿宋"/>
              </a:rPr>
              <a:t>例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Garamond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一任务如图，求完成整个任务的最短时间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【解】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0 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2 ,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2)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2 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2 + 2 = 4 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2 + 8 =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124000" y="1197000"/>
            <a:ext cx="4824360" cy="23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DEE21-6C9F-4A9A-8640-A82F301E351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2" dur="10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000"/>
                            </p:stCondLst>
                            <p:childTnLst>
                              <p:par>
                                <p:cTn id="83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6" dur="10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1" dur="10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5" dur="10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9" dur="1000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3)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max {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3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,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3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} = max{8,4} = 8 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8 + 8 = 16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4)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4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16 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16 + 3 = 19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16 + 4 = 2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5)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max {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5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,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5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} = max{10,19} = 19 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19 + 3 = 2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6)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max {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6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,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6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} = max{20,22} = 2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完成任务最短时间为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2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4F532-112E-4DE0-A536-6146772CD48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6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8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0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5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9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000"/>
                            </p:stCondLst>
                            <p:childTnLst>
                              <p:par>
                                <p:cTn id="8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3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8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2" dur="1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7" dur="10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92" dur="10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最长路径为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→3 → 4 → 5 → 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关键轨道不一定唯一。欲缩短工期，必须把每条关键轨道上至少一条边的长度缩短，而非关键轨道上的边长即使缩短，也未必能够缩短工期。此方法也称为关键轨道方法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CPM ( Critical Path Method 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"/>
          <p:cNvSpPr/>
          <p:nvPr/>
        </p:nvSpPr>
        <p:spPr>
          <a:xfrm>
            <a:off x="1619280" y="1557360"/>
            <a:ext cx="50472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03640" y="476280"/>
            <a:ext cx="57456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03640" y="2565360"/>
            <a:ext cx="57636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48360" y="476280"/>
            <a:ext cx="503280" cy="50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48360" y="2565360"/>
            <a:ext cx="50472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20000" y="1484280"/>
            <a:ext cx="50472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1" idx="6"/>
            <a:endCxn id="213" idx="2"/>
          </p:cNvCxnSpPr>
          <p:nvPr/>
        </p:nvCxnSpPr>
        <p:spPr>
          <a:xfrm>
            <a:off x="3778200" y="728280"/>
            <a:ext cx="13708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1" idx="4"/>
            <a:endCxn id="212" idx="0"/>
          </p:cNvCxnSpPr>
          <p:nvPr/>
        </p:nvCxnSpPr>
        <p:spPr>
          <a:xfrm>
            <a:off x="3490920" y="979200"/>
            <a:ext cx="2160" cy="1586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2" idx="6"/>
            <a:endCxn id="214" idx="2"/>
          </p:cNvCxnSpPr>
          <p:nvPr/>
        </p:nvCxnSpPr>
        <p:spPr>
          <a:xfrm>
            <a:off x="3779640" y="2817360"/>
            <a:ext cx="1369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10" idx="5"/>
            <a:endCxn id="212" idx="2"/>
          </p:cNvCxnSpPr>
          <p:nvPr/>
        </p:nvCxnSpPr>
        <p:spPr>
          <a:xfrm>
            <a:off x="2049480" y="1987560"/>
            <a:ext cx="1154880" cy="830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0" idx="7"/>
            <a:endCxn id="211" idx="2"/>
          </p:cNvCxnSpPr>
          <p:nvPr/>
        </p:nvCxnSpPr>
        <p:spPr>
          <a:xfrm flipV="1">
            <a:off x="2049480" y="727920"/>
            <a:ext cx="1154880" cy="90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4" idx="6"/>
            <a:endCxn id="215" idx="3"/>
          </p:cNvCxnSpPr>
          <p:nvPr/>
        </p:nvCxnSpPr>
        <p:spPr>
          <a:xfrm flipV="1">
            <a:off x="5653080" y="1913760"/>
            <a:ext cx="1442160" cy="90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3" idx="6"/>
            <a:endCxn id="215" idx="1"/>
          </p:cNvCxnSpPr>
          <p:nvPr/>
        </p:nvCxnSpPr>
        <p:spPr>
          <a:xfrm>
            <a:off x="5651640" y="728640"/>
            <a:ext cx="1443600" cy="8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2260080" y="90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40000" y="2349360"/>
            <a:ext cx="2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0" idx="5"/>
            <a:endCxn id="212" idx="2"/>
          </p:cNvCxnSpPr>
          <p:nvPr/>
        </p:nvCxnSpPr>
        <p:spPr>
          <a:xfrm>
            <a:off x="2049480" y="1987560"/>
            <a:ext cx="1154880" cy="8308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2" idx="6"/>
            <a:endCxn id="214" idx="2"/>
          </p:cNvCxnSpPr>
          <p:nvPr/>
        </p:nvCxnSpPr>
        <p:spPr>
          <a:xfrm>
            <a:off x="3779640" y="2817360"/>
            <a:ext cx="13690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14" idx="0"/>
            <a:endCxn id="213" idx="4"/>
          </p:cNvCxnSpPr>
          <p:nvPr/>
        </p:nvCxnSpPr>
        <p:spPr>
          <a:xfrm flipV="1">
            <a:off x="5400360" y="980280"/>
            <a:ext cx="1080" cy="1585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4" idx="0"/>
            <a:endCxn id="213" idx="4"/>
          </p:cNvCxnSpPr>
          <p:nvPr/>
        </p:nvCxnSpPr>
        <p:spPr>
          <a:xfrm flipV="1">
            <a:off x="5400360" y="980280"/>
            <a:ext cx="1080" cy="1585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13" idx="6"/>
            <a:endCxn id="215" idx="1"/>
          </p:cNvCxnSpPr>
          <p:nvPr/>
        </p:nvCxnSpPr>
        <p:spPr>
          <a:xfrm>
            <a:off x="5651640" y="728640"/>
            <a:ext cx="1443600" cy="829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3463560" y="14446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76440" y="2781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76440" y="404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40080" y="14842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48080" y="10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43200" y="2309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72360" y="342900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67640" y="3357720"/>
            <a:ext cx="21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关键轨道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6BF3D-A11A-437C-B3D2-E94C7055B60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000"/>
                            </p:stCondLst>
                            <p:childTnLst>
                              <p:par>
                                <p:cTn id="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2000"/>
                            </p:stCondLst>
                            <p:childTnLst>
                              <p:par>
                                <p:cTn id="9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000"/>
                            </p:stCondLst>
                            <p:childTnLst>
                              <p:par>
                                <p:cTn id="9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2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6" dur="1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例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上海市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9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年竞赛题）现有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4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件工件等待在一台机车上加工，某些工件的加工必须安排在另一些工件完工以后才能开始，各工件的加工时间及先期必须完成的工件号由下表给出：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0" y="2708280"/>
          <a:ext cx="9144000" cy="3684600"/>
        </p:xfrm>
        <a:graphic>
          <a:graphicData uri="http://schemas.openxmlformats.org/drawingml/2006/table">
            <a:tbl>
              <a:tblPr/>
              <a:tblGrid>
                <a:gridCol w="671400"/>
                <a:gridCol w="635040"/>
                <a:gridCol w="601560"/>
                <a:gridCol w="576360"/>
                <a:gridCol w="647640"/>
                <a:gridCol w="576360"/>
                <a:gridCol w="55872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aramond"/>
                          <a:ea typeface="华文仿宋"/>
                        </a:rPr>
                        <a:t>工件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  <a:ea typeface="华文仿宋"/>
                        </a:rPr>
                        <a:t>加工时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仿宋"/>
                        </a:rPr>
                        <a:t>t</a:t>
                      </a:r>
                      <a:r>
                        <a:rPr b="1" i="1" lang="zh-CN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华文仿宋"/>
                        </a:rPr>
                        <a:t>j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2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  <a:ea typeface="华文仿宋"/>
                        </a:rPr>
                        <a:t>前期工件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26DAB-49FC-4687-A130-5AB1DA16ECE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3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48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Garamond"/>
                <a:ea typeface="华文行楷"/>
              </a:rPr>
              <a:t>         </a:t>
            </a:r>
            <a:r>
              <a:rPr b="1" lang="zh-CN" sz="4400" spc="-1" strike="noStrike">
                <a:solidFill>
                  <a:srgbClr val="ffcc00"/>
                </a:solidFill>
                <a:latin typeface="Garamond"/>
                <a:ea typeface="华文行楷"/>
              </a:rPr>
              <a:t>最短路问题及其算法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在动态规划模型中我们讲了一个最短路线问题的例子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最短路径： 路径长为：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14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  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事实上，最短路问题的应用背景很广，如网络设计、运输方案、工作计划等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19280" y="1844640"/>
            <a:ext cx="6192720" cy="28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1E800-F28D-4CA2-81B3-A6724EB597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1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若给出一个加工顺序，则确定了每个工件的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完工时间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包括等待与加工两个阶段），试设计一个满足条件的加工顺序，使各个工件的完工时间之和最小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若第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号工件紧接着第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号工件完工后开工，机车需要花费的准备时间是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试设计一个满足条件的加工顺序，使机车花费的总时间最小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340000" y="3500280"/>
          <a:ext cx="3697200" cy="10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500280"/>
                    <a:ext cx="369720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ABCBA-B846-4950-BDCB-F8847BFA762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[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解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]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 构造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ERT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图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G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V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E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如下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"/>
          <p:cNvSpPr/>
          <p:nvPr/>
        </p:nvSpPr>
        <p:spPr>
          <a:xfrm>
            <a:off x="684360" y="3213000"/>
            <a:ext cx="431640" cy="432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740720" y="3141720"/>
            <a:ext cx="50328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00720" y="1052640"/>
            <a:ext cx="503280" cy="50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00720" y="2421000"/>
            <a:ext cx="50328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00720" y="3933720"/>
            <a:ext cx="504720" cy="505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300720" y="5516640"/>
            <a:ext cx="50472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1052640"/>
            <a:ext cx="503280" cy="50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16360" y="2421000"/>
            <a:ext cx="505080" cy="50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16360" y="3933720"/>
            <a:ext cx="505080" cy="505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16360" y="5516640"/>
            <a:ext cx="50328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59280" y="5516640"/>
            <a:ext cx="504720" cy="50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59280" y="3933720"/>
            <a:ext cx="502920" cy="505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59280" y="2421000"/>
            <a:ext cx="50292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1052640"/>
            <a:ext cx="502920" cy="50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35280" y="4581360"/>
            <a:ext cx="504720" cy="505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1773360"/>
            <a:ext cx="50472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48" idx="7"/>
            <a:endCxn id="263" idx="3"/>
          </p:cNvCxnSpPr>
          <p:nvPr/>
        </p:nvCxnSpPr>
        <p:spPr>
          <a:xfrm flipV="1">
            <a:off x="1052280" y="2203200"/>
            <a:ext cx="857880" cy="1073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48" idx="5"/>
            <a:endCxn id="262" idx="1"/>
          </p:cNvCxnSpPr>
          <p:nvPr/>
        </p:nvCxnSpPr>
        <p:spPr>
          <a:xfrm>
            <a:off x="1052280" y="3581280"/>
            <a:ext cx="857880" cy="1075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3" idx="7"/>
            <a:endCxn id="261" idx="2"/>
          </p:cNvCxnSpPr>
          <p:nvPr/>
        </p:nvCxnSpPr>
        <p:spPr>
          <a:xfrm flipV="1">
            <a:off x="2265120" y="1304640"/>
            <a:ext cx="794520" cy="54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3" idx="5"/>
            <a:endCxn id="260" idx="2"/>
          </p:cNvCxnSpPr>
          <p:nvPr/>
        </p:nvCxnSpPr>
        <p:spPr>
          <a:xfrm>
            <a:off x="2265120" y="2203200"/>
            <a:ext cx="794520" cy="470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3" idx="5"/>
            <a:endCxn id="259" idx="1"/>
          </p:cNvCxnSpPr>
          <p:nvPr/>
        </p:nvCxnSpPr>
        <p:spPr>
          <a:xfrm>
            <a:off x="2265120" y="2203560"/>
            <a:ext cx="867240" cy="180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63" idx="4"/>
            <a:endCxn id="258" idx="1"/>
          </p:cNvCxnSpPr>
          <p:nvPr/>
        </p:nvCxnSpPr>
        <p:spPr>
          <a:xfrm>
            <a:off x="2087640" y="2276280"/>
            <a:ext cx="1046880" cy="3315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2" idx="6"/>
            <a:endCxn id="257" idx="1"/>
          </p:cNvCxnSpPr>
          <p:nvPr/>
        </p:nvCxnSpPr>
        <p:spPr>
          <a:xfrm>
            <a:off x="2340000" y="4833720"/>
            <a:ext cx="2449800" cy="756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61" idx="6"/>
            <a:endCxn id="251" idx="1"/>
          </p:cNvCxnSpPr>
          <p:nvPr/>
        </p:nvCxnSpPr>
        <p:spPr>
          <a:xfrm>
            <a:off x="3562200" y="1304640"/>
            <a:ext cx="2812320" cy="1189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56" idx="1"/>
            <a:endCxn id="261" idx="4"/>
          </p:cNvCxnSpPr>
          <p:nvPr/>
        </p:nvCxnSpPr>
        <p:spPr>
          <a:xfrm flipH="1" flipV="1">
            <a:off x="3311280" y="1556640"/>
            <a:ext cx="1480320" cy="2451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60" idx="7"/>
            <a:endCxn id="254" idx="3"/>
          </p:cNvCxnSpPr>
          <p:nvPr/>
        </p:nvCxnSpPr>
        <p:spPr>
          <a:xfrm flipV="1">
            <a:off x="3489120" y="1482120"/>
            <a:ext cx="1300680" cy="1011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0" idx="6"/>
            <a:endCxn id="255" idx="2"/>
          </p:cNvCxnSpPr>
          <p:nvPr/>
        </p:nvCxnSpPr>
        <p:spPr>
          <a:xfrm>
            <a:off x="3562200" y="2673000"/>
            <a:ext cx="11548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60" idx="6"/>
            <a:endCxn id="252" idx="1"/>
          </p:cNvCxnSpPr>
          <p:nvPr/>
        </p:nvCxnSpPr>
        <p:spPr>
          <a:xfrm>
            <a:off x="3562200" y="2673000"/>
            <a:ext cx="2813760" cy="1335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60" idx="6"/>
            <a:endCxn id="258" idx="6"/>
          </p:cNvCxnSpPr>
          <p:nvPr/>
        </p:nvCxnSpPr>
        <p:spPr>
          <a:xfrm>
            <a:off x="3561840" y="2673000"/>
            <a:ext cx="2520" cy="309636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59" idx="6"/>
            <a:endCxn id="256" idx="2"/>
          </p:cNvCxnSpPr>
          <p:nvPr/>
        </p:nvCxnSpPr>
        <p:spPr>
          <a:xfrm>
            <a:off x="3562200" y="4185720"/>
            <a:ext cx="11548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59" idx="0"/>
            <a:endCxn id="250" idx="2"/>
          </p:cNvCxnSpPr>
          <p:nvPr/>
        </p:nvCxnSpPr>
        <p:spPr>
          <a:xfrm flipH="1" flipV="1" rot="5400000">
            <a:off x="3491280" y="1124280"/>
            <a:ext cx="2629440" cy="298980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58" idx="6"/>
            <a:endCxn id="257" idx="2"/>
          </p:cNvCxnSpPr>
          <p:nvPr/>
        </p:nvCxnSpPr>
        <p:spPr>
          <a:xfrm>
            <a:off x="3563640" y="5768640"/>
            <a:ext cx="1152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57" idx="6"/>
            <a:endCxn id="253" idx="2"/>
          </p:cNvCxnSpPr>
          <p:nvPr/>
        </p:nvCxnSpPr>
        <p:spPr>
          <a:xfrm>
            <a:off x="5219280" y="5768640"/>
            <a:ext cx="10818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57" idx="0"/>
            <a:endCxn id="256" idx="4"/>
          </p:cNvCxnSpPr>
          <p:nvPr/>
        </p:nvCxnSpPr>
        <p:spPr>
          <a:xfrm flipV="1">
            <a:off x="4968360" y="4438800"/>
            <a:ext cx="1080" cy="107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57" idx="2"/>
            <a:endCxn id="255" idx="2"/>
          </p:cNvCxnSpPr>
          <p:nvPr/>
        </p:nvCxnSpPr>
        <p:spPr>
          <a:xfrm flipH="1" rot="10800000">
            <a:off x="4715280" y="2672640"/>
            <a:ext cx="2520" cy="30963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57" idx="6"/>
            <a:endCxn id="254" idx="6"/>
          </p:cNvCxnSpPr>
          <p:nvPr/>
        </p:nvCxnSpPr>
        <p:spPr>
          <a:xfrm flipV="1">
            <a:off x="5219280" y="1304640"/>
            <a:ext cx="2520" cy="4464720"/>
          </a:xfrm>
          <a:prstGeom prst="curvedConnector5">
            <a:avLst>
              <a:gd name="adj1" fmla="val 14300000"/>
              <a:gd name="adj2" fmla="val 49995"/>
              <a:gd name="adj3" fmla="val 143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56" idx="0"/>
            <a:endCxn id="255" idx="4"/>
          </p:cNvCxnSpPr>
          <p:nvPr/>
        </p:nvCxnSpPr>
        <p:spPr>
          <a:xfrm flipV="1">
            <a:off x="4968360" y="2925360"/>
            <a:ext cx="1080" cy="1008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55" idx="0"/>
            <a:endCxn id="254" idx="4"/>
          </p:cNvCxnSpPr>
          <p:nvPr/>
        </p:nvCxnSpPr>
        <p:spPr>
          <a:xfrm flipV="1">
            <a:off x="4968360" y="1556640"/>
            <a:ext cx="1080" cy="864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54" idx="6"/>
            <a:endCxn id="251" idx="0"/>
          </p:cNvCxnSpPr>
          <p:nvPr/>
        </p:nvCxnSpPr>
        <p:spPr>
          <a:xfrm>
            <a:off x="5219640" y="1305000"/>
            <a:ext cx="1334160" cy="1116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50" idx="4"/>
            <a:endCxn id="251" idx="0"/>
          </p:cNvCxnSpPr>
          <p:nvPr/>
        </p:nvCxnSpPr>
        <p:spPr>
          <a:xfrm>
            <a:off x="6552720" y="1557000"/>
            <a:ext cx="1080" cy="864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50" idx="6"/>
            <a:endCxn id="252" idx="6"/>
          </p:cNvCxnSpPr>
          <p:nvPr/>
        </p:nvCxnSpPr>
        <p:spPr>
          <a:xfrm>
            <a:off x="6804000" y="1304640"/>
            <a:ext cx="2160" cy="288180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51" idx="4"/>
            <a:endCxn id="252" idx="0"/>
          </p:cNvCxnSpPr>
          <p:nvPr/>
        </p:nvCxnSpPr>
        <p:spPr>
          <a:xfrm>
            <a:off x="6552720" y="2924280"/>
            <a:ext cx="1080" cy="1010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52" idx="4"/>
            <a:endCxn id="253" idx="0"/>
          </p:cNvCxnSpPr>
          <p:nvPr/>
        </p:nvCxnSpPr>
        <p:spPr>
          <a:xfrm>
            <a:off x="6552720" y="4438800"/>
            <a:ext cx="1080" cy="107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53" idx="6"/>
            <a:endCxn id="249" idx="3"/>
          </p:cNvCxnSpPr>
          <p:nvPr/>
        </p:nvCxnSpPr>
        <p:spPr>
          <a:xfrm flipV="1">
            <a:off x="6805080" y="3571200"/>
            <a:ext cx="1008720" cy="2197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2301120" y="130176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56" idx="7"/>
            <a:endCxn id="250" idx="3"/>
          </p:cNvCxnSpPr>
          <p:nvPr/>
        </p:nvCxnSpPr>
        <p:spPr>
          <a:xfrm flipV="1">
            <a:off x="5146200" y="1482480"/>
            <a:ext cx="1227960" cy="25264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2463840" y="4869000"/>
            <a:ext cx="39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75120" y="5734080"/>
            <a:ext cx="39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61640" y="573408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4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269840" y="454176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49120" y="461340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425280" y="299736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930360" y="148428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06000" y="414972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708360" y="30686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06000" y="119700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41120" y="137304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51480" y="321804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D8CCC-571B-4FB1-930B-FA46256C016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7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利用关键轨道算法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CPM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求最长关键轨道</a:t>
            </a:r>
            <a:r>
              <a:rPr b="0" lang="zh-CN" sz="3600" spc="-1" strike="noStrike">
                <a:solidFill>
                  <a:srgbClr val="ffffff"/>
                </a:solidFill>
                <a:latin typeface="Garamond"/>
              </a:rPr>
              <a:t> 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T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S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S4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0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,     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1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7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9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,11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0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T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S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S,10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0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,   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0,5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7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T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7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6(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,  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72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78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7,11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7,12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3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9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T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9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6(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,  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93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96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1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 {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,11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7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7,1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 {16,16+32}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48(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,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1,5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 {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0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0,5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1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1,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 {20,48+40} = 88(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1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2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3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8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,13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42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B5F9A-FCDB-4EBE-A8F3-545B6D8C23B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53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58" dur="1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63" dur="1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68" dur="1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73" dur="1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78" dur="10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82" dur="10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87" dur="10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91" dur="1000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96" dur="1000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 {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9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93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3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}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 {16+24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88+42} = 130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lang="zh-CN" sz="2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5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1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6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8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 {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1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1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 {16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30+25} = 155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lang="zh-CN" sz="2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3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,14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8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{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7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78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8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8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{48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30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55}= 155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lang="zh-CN" sz="2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3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82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86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{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7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72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8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82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2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{42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65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30}=165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lang="zh-CN" sz="2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8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,14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28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EDB4A-9957-406B-8C91-93E6E83F491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03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07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1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6" dur="1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20" dur="1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24" dur="10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29" dur="1000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3" dur="100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7" dur="1000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42" dur="1000"/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46" dur="1000"/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50" dur="1000"/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6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{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9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96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8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86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6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{40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65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55}=165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lang="zh-CN" sz="2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8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6,12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6,14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2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4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{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,14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,14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6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6,14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65+28 = 193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lang="zh-CN" sz="2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2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4,12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6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2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{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7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7,12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6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6,12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4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4,12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93+16 = 209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lang="zh-CN" sz="2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14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2,13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24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3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 {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,13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2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2,13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209+24 = 233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lang="zh-CN" sz="2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12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3,T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36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T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233+36=269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lang="zh-CN" sz="2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13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CC62E-A7DE-45CE-A5F1-5ADF07B30F3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57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1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5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70" dur="1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74" dur="1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78" dur="10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83" dur="10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87" dur="100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91" dur="100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96" dur="1000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0" dur="1000"/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4" dur="1000"/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9" dur="1000"/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91440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华文仿宋"/>
                <a:ea typeface="华文仿宋"/>
              </a:rPr>
              <a:t>于是，得到了一条最长关键轨道 </a:t>
            </a:r>
            <a:r>
              <a:rPr b="1" lang="zh-CN" sz="2700" spc="-1" strike="noStrike">
                <a:solidFill>
                  <a:srgbClr val="ffffff"/>
                </a:solidFill>
                <a:latin typeface="华文仿宋"/>
                <a:ea typeface="华文仿宋"/>
              </a:rPr>
              <a:t>4  7  11  5  3  8  2  14  12  13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3213000"/>
            <a:ext cx="431640" cy="432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740720" y="3141720"/>
            <a:ext cx="50328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00720" y="1052640"/>
            <a:ext cx="503280" cy="50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00720" y="2421000"/>
            <a:ext cx="50328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300720" y="3933720"/>
            <a:ext cx="504720" cy="505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00720" y="5516640"/>
            <a:ext cx="50472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16360" y="1052640"/>
            <a:ext cx="503280" cy="50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16360" y="2421000"/>
            <a:ext cx="505080" cy="50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716360" y="3933720"/>
            <a:ext cx="505080" cy="505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16360" y="5516640"/>
            <a:ext cx="50328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5516640"/>
            <a:ext cx="504720" cy="50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59280" y="3933720"/>
            <a:ext cx="502920" cy="505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59280" y="2421000"/>
            <a:ext cx="50292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59280" y="1052640"/>
            <a:ext cx="502920" cy="50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35280" y="4581360"/>
            <a:ext cx="504720" cy="505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35280" y="1773360"/>
            <a:ext cx="50472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1" name=""/>
          <p:cNvCxnSpPr>
            <a:stCxn id="315" idx="7"/>
            <a:endCxn id="330" idx="3"/>
          </p:cNvCxnSpPr>
          <p:nvPr/>
        </p:nvCxnSpPr>
        <p:spPr>
          <a:xfrm flipV="1">
            <a:off x="1052280" y="2203200"/>
            <a:ext cx="857880" cy="1073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32" name=""/>
          <p:cNvCxnSpPr>
            <a:stCxn id="315" idx="5"/>
            <a:endCxn id="329" idx="1"/>
          </p:cNvCxnSpPr>
          <p:nvPr/>
        </p:nvCxnSpPr>
        <p:spPr>
          <a:xfrm>
            <a:off x="1052280" y="3581280"/>
            <a:ext cx="857880" cy="1075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33" name=""/>
          <p:cNvCxnSpPr>
            <a:stCxn id="330" idx="7"/>
            <a:endCxn id="328" idx="2"/>
          </p:cNvCxnSpPr>
          <p:nvPr/>
        </p:nvCxnSpPr>
        <p:spPr>
          <a:xfrm flipV="1">
            <a:off x="2265120" y="1304640"/>
            <a:ext cx="794520" cy="54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34" name=""/>
          <p:cNvCxnSpPr>
            <a:stCxn id="330" idx="6"/>
            <a:endCxn id="327" idx="2"/>
          </p:cNvCxnSpPr>
          <p:nvPr/>
        </p:nvCxnSpPr>
        <p:spPr>
          <a:xfrm>
            <a:off x="2340000" y="2025360"/>
            <a:ext cx="720000" cy="64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35" name=""/>
          <p:cNvCxnSpPr>
            <a:stCxn id="330" idx="5"/>
            <a:endCxn id="326" idx="1"/>
          </p:cNvCxnSpPr>
          <p:nvPr/>
        </p:nvCxnSpPr>
        <p:spPr>
          <a:xfrm>
            <a:off x="2265120" y="2203560"/>
            <a:ext cx="867240" cy="180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36" name=""/>
          <p:cNvCxnSpPr>
            <a:stCxn id="330" idx="4"/>
            <a:endCxn id="325" idx="1"/>
          </p:cNvCxnSpPr>
          <p:nvPr/>
        </p:nvCxnSpPr>
        <p:spPr>
          <a:xfrm>
            <a:off x="2087640" y="2276280"/>
            <a:ext cx="1046880" cy="3315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37" name=""/>
          <p:cNvCxnSpPr>
            <a:stCxn id="329" idx="6"/>
            <a:endCxn id="324" idx="1"/>
          </p:cNvCxnSpPr>
          <p:nvPr/>
        </p:nvCxnSpPr>
        <p:spPr>
          <a:xfrm>
            <a:off x="2340000" y="4833720"/>
            <a:ext cx="2449800" cy="756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28" idx="6"/>
            <a:endCxn id="318" idx="1"/>
          </p:cNvCxnSpPr>
          <p:nvPr/>
        </p:nvCxnSpPr>
        <p:spPr>
          <a:xfrm>
            <a:off x="3562200" y="1304640"/>
            <a:ext cx="2812320" cy="1189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39" name=""/>
          <p:cNvCxnSpPr>
            <a:stCxn id="323" idx="1"/>
            <a:endCxn id="328" idx="4"/>
          </p:cNvCxnSpPr>
          <p:nvPr/>
        </p:nvCxnSpPr>
        <p:spPr>
          <a:xfrm flipH="1" flipV="1">
            <a:off x="3311280" y="1556640"/>
            <a:ext cx="1480320" cy="2451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27" idx="7"/>
            <a:endCxn id="321" idx="3"/>
          </p:cNvCxnSpPr>
          <p:nvPr/>
        </p:nvCxnSpPr>
        <p:spPr>
          <a:xfrm flipV="1">
            <a:off x="3489120" y="1482120"/>
            <a:ext cx="1300680" cy="1011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41" name=""/>
          <p:cNvCxnSpPr>
            <a:stCxn id="327" idx="6"/>
            <a:endCxn id="322" idx="2"/>
          </p:cNvCxnSpPr>
          <p:nvPr/>
        </p:nvCxnSpPr>
        <p:spPr>
          <a:xfrm>
            <a:off x="3562200" y="2673000"/>
            <a:ext cx="11548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27" idx="6"/>
            <a:endCxn id="319" idx="1"/>
          </p:cNvCxnSpPr>
          <p:nvPr/>
        </p:nvCxnSpPr>
        <p:spPr>
          <a:xfrm>
            <a:off x="3562200" y="2673000"/>
            <a:ext cx="2813760" cy="1335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43" name=""/>
          <p:cNvCxnSpPr>
            <a:stCxn id="327" idx="6"/>
            <a:endCxn id="325" idx="6"/>
          </p:cNvCxnSpPr>
          <p:nvPr/>
        </p:nvCxnSpPr>
        <p:spPr>
          <a:xfrm>
            <a:off x="3561840" y="2673000"/>
            <a:ext cx="2520" cy="3096360"/>
          </a:xfrm>
          <a:prstGeom prst="curvedConnector5">
            <a:avLst>
              <a:gd name="adj1" fmla="val 12700000"/>
              <a:gd name="adj2" fmla="val 50000"/>
              <a:gd name="adj3" fmla="val 127000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26" idx="6"/>
            <a:endCxn id="323" idx="2"/>
          </p:cNvCxnSpPr>
          <p:nvPr/>
        </p:nvCxnSpPr>
        <p:spPr>
          <a:xfrm>
            <a:off x="3562200" y="4185720"/>
            <a:ext cx="11548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26" idx="0"/>
            <a:endCxn id="317" idx="2"/>
          </p:cNvCxnSpPr>
          <p:nvPr/>
        </p:nvCxnSpPr>
        <p:spPr>
          <a:xfrm flipH="1" flipV="1" rot="5400000">
            <a:off x="3491280" y="1124280"/>
            <a:ext cx="2629440" cy="298980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46" name=""/>
          <p:cNvCxnSpPr>
            <a:stCxn id="325" idx="6"/>
            <a:endCxn id="324" idx="2"/>
          </p:cNvCxnSpPr>
          <p:nvPr/>
        </p:nvCxnSpPr>
        <p:spPr>
          <a:xfrm>
            <a:off x="3563640" y="5768640"/>
            <a:ext cx="1152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4" idx="6"/>
            <a:endCxn id="320" idx="2"/>
          </p:cNvCxnSpPr>
          <p:nvPr/>
        </p:nvCxnSpPr>
        <p:spPr>
          <a:xfrm>
            <a:off x="5219280" y="5768640"/>
            <a:ext cx="10818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4" idx="0"/>
            <a:endCxn id="323" idx="4"/>
          </p:cNvCxnSpPr>
          <p:nvPr/>
        </p:nvCxnSpPr>
        <p:spPr>
          <a:xfrm flipV="1">
            <a:off x="4968360" y="4438800"/>
            <a:ext cx="1080" cy="107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24" idx="2"/>
            <a:endCxn id="322" idx="2"/>
          </p:cNvCxnSpPr>
          <p:nvPr/>
        </p:nvCxnSpPr>
        <p:spPr>
          <a:xfrm flipH="1" rot="10800000">
            <a:off x="4715280" y="2672640"/>
            <a:ext cx="2520" cy="30963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24" idx="6"/>
            <a:endCxn id="321" idx="6"/>
          </p:cNvCxnSpPr>
          <p:nvPr/>
        </p:nvCxnSpPr>
        <p:spPr>
          <a:xfrm flipV="1">
            <a:off x="5219280" y="1304640"/>
            <a:ext cx="2520" cy="4464720"/>
          </a:xfrm>
          <a:prstGeom prst="curvedConnector5">
            <a:avLst>
              <a:gd name="adj1" fmla="val 14300000"/>
              <a:gd name="adj2" fmla="val 49995"/>
              <a:gd name="adj3" fmla="val 143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23" idx="0"/>
            <a:endCxn id="322" idx="4"/>
          </p:cNvCxnSpPr>
          <p:nvPr/>
        </p:nvCxnSpPr>
        <p:spPr>
          <a:xfrm flipV="1">
            <a:off x="4968360" y="2925360"/>
            <a:ext cx="1080" cy="1008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22" idx="0"/>
            <a:endCxn id="321" idx="4"/>
          </p:cNvCxnSpPr>
          <p:nvPr/>
        </p:nvCxnSpPr>
        <p:spPr>
          <a:xfrm flipV="1">
            <a:off x="4968360" y="1556640"/>
            <a:ext cx="1080" cy="864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53" name=""/>
          <p:cNvCxnSpPr>
            <a:stCxn id="321" idx="6"/>
            <a:endCxn id="318" idx="0"/>
          </p:cNvCxnSpPr>
          <p:nvPr/>
        </p:nvCxnSpPr>
        <p:spPr>
          <a:xfrm>
            <a:off x="5219640" y="1305000"/>
            <a:ext cx="1334160" cy="1116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54" name=""/>
          <p:cNvCxnSpPr>
            <a:stCxn id="317" idx="4"/>
            <a:endCxn id="318" idx="0"/>
          </p:cNvCxnSpPr>
          <p:nvPr/>
        </p:nvCxnSpPr>
        <p:spPr>
          <a:xfrm>
            <a:off x="6552720" y="1557000"/>
            <a:ext cx="1080" cy="864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55" name=""/>
          <p:cNvCxnSpPr>
            <a:stCxn id="317" idx="6"/>
            <a:endCxn id="319" idx="6"/>
          </p:cNvCxnSpPr>
          <p:nvPr/>
        </p:nvCxnSpPr>
        <p:spPr>
          <a:xfrm>
            <a:off x="6804000" y="1304640"/>
            <a:ext cx="2160" cy="288180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56" name=""/>
          <p:cNvCxnSpPr>
            <a:stCxn id="318" idx="4"/>
            <a:endCxn id="319" idx="0"/>
          </p:cNvCxnSpPr>
          <p:nvPr/>
        </p:nvCxnSpPr>
        <p:spPr>
          <a:xfrm>
            <a:off x="6552720" y="2924280"/>
            <a:ext cx="1080" cy="1010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57" name=""/>
          <p:cNvCxnSpPr>
            <a:stCxn id="319" idx="4"/>
            <a:endCxn id="320" idx="0"/>
          </p:cNvCxnSpPr>
          <p:nvPr/>
        </p:nvCxnSpPr>
        <p:spPr>
          <a:xfrm>
            <a:off x="6552720" y="4438800"/>
            <a:ext cx="1080" cy="107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20" idx="6"/>
            <a:endCxn id="316" idx="3"/>
          </p:cNvCxnSpPr>
          <p:nvPr/>
        </p:nvCxnSpPr>
        <p:spPr>
          <a:xfrm flipV="1">
            <a:off x="6805080" y="3571200"/>
            <a:ext cx="1008720" cy="2197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59" name=""/>
          <p:cNvCxnSpPr>
            <a:stCxn id="315" idx="7"/>
            <a:endCxn id="330" idx="3"/>
          </p:cNvCxnSpPr>
          <p:nvPr/>
        </p:nvCxnSpPr>
        <p:spPr>
          <a:xfrm flipV="1">
            <a:off x="1052280" y="2203200"/>
            <a:ext cx="857880" cy="1073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0" name=""/>
          <p:cNvCxnSpPr>
            <a:stCxn id="330" idx="6"/>
            <a:endCxn id="327" idx="2"/>
          </p:cNvCxnSpPr>
          <p:nvPr/>
        </p:nvCxnSpPr>
        <p:spPr>
          <a:xfrm>
            <a:off x="2340000" y="2025360"/>
            <a:ext cx="720000" cy="64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27" idx="6"/>
            <a:endCxn id="325" idx="6"/>
          </p:cNvCxnSpPr>
          <p:nvPr/>
        </p:nvCxnSpPr>
        <p:spPr>
          <a:xfrm>
            <a:off x="3561840" y="2673000"/>
            <a:ext cx="2520" cy="3096360"/>
          </a:xfrm>
          <a:prstGeom prst="curvedConnector5">
            <a:avLst>
              <a:gd name="adj1" fmla="val 13500000"/>
              <a:gd name="adj2" fmla="val 50000"/>
              <a:gd name="adj3" fmla="val 135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25" idx="6"/>
            <a:endCxn id="324" idx="2"/>
          </p:cNvCxnSpPr>
          <p:nvPr/>
        </p:nvCxnSpPr>
        <p:spPr>
          <a:xfrm>
            <a:off x="3563640" y="5768640"/>
            <a:ext cx="11527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24" idx="0"/>
            <a:endCxn id="323" idx="4"/>
          </p:cNvCxnSpPr>
          <p:nvPr/>
        </p:nvCxnSpPr>
        <p:spPr>
          <a:xfrm flipV="1">
            <a:off x="4968360" y="4438800"/>
            <a:ext cx="1080" cy="10782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23" idx="0"/>
            <a:endCxn id="322" idx="4"/>
          </p:cNvCxnSpPr>
          <p:nvPr/>
        </p:nvCxnSpPr>
        <p:spPr>
          <a:xfrm flipV="1">
            <a:off x="4968360" y="2925360"/>
            <a:ext cx="1080" cy="10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5" name=""/>
          <p:cNvCxnSpPr>
            <a:stCxn id="322" idx="0"/>
            <a:endCxn id="321" idx="4"/>
          </p:cNvCxnSpPr>
          <p:nvPr/>
        </p:nvCxnSpPr>
        <p:spPr>
          <a:xfrm flipV="1">
            <a:off x="4968360" y="1556640"/>
            <a:ext cx="1080" cy="864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6" name=""/>
          <p:cNvCxnSpPr>
            <a:stCxn id="321" idx="6"/>
            <a:endCxn id="318" idx="0"/>
          </p:cNvCxnSpPr>
          <p:nvPr/>
        </p:nvCxnSpPr>
        <p:spPr>
          <a:xfrm>
            <a:off x="5219640" y="1305000"/>
            <a:ext cx="1334160" cy="1116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7" name=""/>
          <p:cNvCxnSpPr>
            <a:stCxn id="318" idx="4"/>
            <a:endCxn id="319" idx="0"/>
          </p:cNvCxnSpPr>
          <p:nvPr/>
        </p:nvCxnSpPr>
        <p:spPr>
          <a:xfrm>
            <a:off x="6552720" y="2924280"/>
            <a:ext cx="1080" cy="1010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8" name=""/>
          <p:cNvCxnSpPr>
            <a:stCxn id="319" idx="4"/>
            <a:endCxn id="320" idx="0"/>
          </p:cNvCxnSpPr>
          <p:nvPr/>
        </p:nvCxnSpPr>
        <p:spPr>
          <a:xfrm>
            <a:off x="6552720" y="4438800"/>
            <a:ext cx="1080" cy="10782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20" idx="6"/>
            <a:endCxn id="316" idx="3"/>
          </p:cNvCxnSpPr>
          <p:nvPr/>
        </p:nvCxnSpPr>
        <p:spPr>
          <a:xfrm flipV="1">
            <a:off x="6805080" y="3571200"/>
            <a:ext cx="1008720" cy="2197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1AFCA-3C3F-4E4A-AC42-4D81A777083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16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9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显然，最长关键轨道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3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上的工件加工顺序不能改变，还有 ① ⑥ ⑨ ⑩ 四点要插入上述序列中。把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3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截成两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P1 = 4(16)  7(32)  11(40)  5(42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P2 = 3(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5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 )  8 (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0)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2 (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8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 )  14(16)  12(24)  13(36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由于工件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0(20)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必须在工件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5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之前加工，而工件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9(24)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必须在工件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4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之后、工件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3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之前加工，所以工件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插入序列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1.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(20)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6 (12)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都必须在工件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3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之后，故应插入序列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2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3A87F-7A4F-4D99-AC3C-F1F3F0C5BC2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68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72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76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81" dur="1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若不考虑等待时间，则按任意允许方式插入均可，机车工作时间相同。但若考虑等待时间，显然，要保证完工时间最短，应尽量将加工时间少的工件先加工以减少等待时间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在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序列中，插入后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9, 10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工序后顺序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4   10   9   7   11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在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2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序列中，插入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工序后顺序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3   8   6   1   2   14  12   1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将两段合并为一段，得到最终加工顺序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4   10   9   7   11   5   3   8   6   1   2   14   12   1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4C3C8-2344-4F30-BCA7-FCF4C94A9BA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2" dur="indefinite" restart="never" nodeType="tmRoot">
          <p:childTnLst>
            <p:seq>
              <p:cTn id="1383" dur="indefinite" nodeType="mainSeq">
                <p:childTnLst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88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93" dur="1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97" dur="1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02" dur="1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06" dur="10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11" dur="10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15" dur="10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考虑加工准备时间，相当于同一个节点出发的弧上的权不再是相同的，重新求最长关键轨道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4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 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S4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,     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41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47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49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4,11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S,10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,   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10,5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7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47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47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6+11 = 27(4)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,  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72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78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7,11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7,12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9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49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49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6+13=29(4)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,  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93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96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37697-BA87-41BF-AE5E-1B5549D2F9D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27" dur="1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32" dur="1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37" dur="1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2" dur="1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3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max {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4,11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4,11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, 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7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7,11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7,1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max {16+15,27+32+18}= 77 (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11,5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3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max{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10,5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10,5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,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11,5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11,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max{20+10,48+40+12}=100(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52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53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58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5,13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3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max{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9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93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93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,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53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5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 max{16+24+12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8+42+8}=13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31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36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38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5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，……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88E72-77A1-48DD-AC98-3FD7A2E875A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9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53" dur="1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57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62" dur="10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66" dur="1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70" dur="10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75" dur="10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79" dur="1000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84" dur="10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44956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    </a:t>
            </a:r>
            <a:r>
              <a:rPr b="1" lang="zh-CN" sz="2600" spc="-1" strike="noStrike" u="sng">
                <a:solidFill>
                  <a:srgbClr val="ffffff"/>
                </a:solidFill>
                <a:uFillTx/>
                <a:latin typeface="Garamond"/>
                <a:ea typeface="华文仿宋"/>
              </a:rPr>
              <a:t>例 </a:t>
            </a:r>
            <a:r>
              <a:rPr b="1" lang="zh-CN" sz="2600" spc="-1" strike="noStrike" u="sng">
                <a:solidFill>
                  <a:srgbClr val="ffffff"/>
                </a:solidFill>
                <a:uFillTx/>
                <a:latin typeface="Garamond"/>
                <a:ea typeface="华文仿宋"/>
              </a:rPr>
              <a:t>1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（设备更新问题）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设某公司需使用某种设备一套，设备购买价格及维修费用见表。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现设该公司在第一年开始时新购入一套设备，问今后 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5 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年的设备更新方案如何，才能使得总费用最省？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894200" y="1197000"/>
          <a:ext cx="4249800" cy="1387440"/>
        </p:xfrm>
        <a:graphic>
          <a:graphicData uri="http://schemas.openxmlformats.org/drawingml/2006/table">
            <a:tbl>
              <a:tblPr/>
              <a:tblGrid>
                <a:gridCol w="708120"/>
                <a:gridCol w="708120"/>
                <a:gridCol w="709560"/>
                <a:gridCol w="708120"/>
                <a:gridCol w="707760"/>
                <a:gridCol w="7081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价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716360" y="3213000"/>
          <a:ext cx="4427640" cy="1622160"/>
        </p:xfrm>
        <a:graphic>
          <a:graphicData uri="http://schemas.openxmlformats.org/drawingml/2006/table">
            <a:tbl>
              <a:tblPr/>
              <a:tblGrid>
                <a:gridCol w="863640"/>
                <a:gridCol w="720720"/>
                <a:gridCol w="647640"/>
                <a:gridCol w="787680"/>
                <a:gridCol w="755640"/>
                <a:gridCol w="652320"/>
              </a:tblGrid>
              <a:tr h="84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使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年限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－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－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－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－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－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维修费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524D9-54FF-4B2C-8F0E-B7DBFA47BC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对此题数据而言，最长关键轨道不变，仍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4   7   11   5   3   8   2   14   12   13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仍将该轨道分为两段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1 = 4  7  11  5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2 = 3  8  2  14  12  1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将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插入序列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共有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9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种排列，计算各种排列下的加工准备时间之和，得到加工准备时间最少的一种排列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1* = 4  7  11  10  9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28F65-CE52-47A8-864A-8CFB3F3FE4A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91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95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00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04" dur="1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08" dur="1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13" dur="10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18" dur="10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将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6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插入序列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2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共有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种排列，加工准备时间最少的一种排列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2* = 3  8  6  2  1  14  12  1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故考虑加工准备时间的最终加工顺序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4  7  11  10  9  5  3  8  6  2  1  14  12  1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37994-E9D1-4A11-A4F6-93681CD2E21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9" dur="indefinite" restart="never" nodeType="tmRoot">
          <p:childTnLst>
            <p:seq>
              <p:cTn id="1520" dur="indefinite" nodeType="mainSeq">
                <p:childTnLst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25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29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4" dur="1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8" dur="10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  <a:ea typeface="华文行楷"/>
              </a:rPr>
              <a:t>       </a:t>
            </a:r>
            <a:r>
              <a:rPr b="1" lang="zh-CN" sz="3600" spc="-1" strike="noStrike">
                <a:solidFill>
                  <a:srgbClr val="ffcc00"/>
                </a:solidFill>
                <a:latin typeface="Garamond"/>
                <a:ea typeface="华文行楷"/>
              </a:rPr>
              <a:t>循环比赛的名次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N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支球队循环赛，每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比赛必须分出胜负，没有平局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根据比赛结果排出各队名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方法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寻找按箭头方向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通过全部顶点的路径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Garamond"/>
              </a:rPr>
              <a:t>            </a:t>
            </a:r>
            <a:r>
              <a:rPr b="1" lang="zh-CN" sz="2800" spc="-1" strike="noStrike">
                <a:solidFill>
                  <a:srgbClr val="ff3300"/>
                </a:solidFill>
                <a:latin typeface="Garamond"/>
              </a:rPr>
              <a:t>312456     </a:t>
            </a:r>
            <a:r>
              <a:rPr b="1" lang="zh-CN" sz="2800" spc="-1" strike="noStrike">
                <a:solidFill>
                  <a:srgbClr val="0099cc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……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334120" y="1095480"/>
            <a:ext cx="3809880" cy="3173400"/>
            <a:chOff x="5334120" y="1095480"/>
            <a:chExt cx="3809880" cy="3173400"/>
          </a:xfrm>
        </p:grpSpPr>
        <p:sp>
          <p:nvSpPr>
            <p:cNvPr id="385" name=""/>
            <p:cNvSpPr/>
            <p:nvPr/>
          </p:nvSpPr>
          <p:spPr>
            <a:xfrm flipV="1">
              <a:off x="6400800" y="2604600"/>
              <a:ext cx="2362320" cy="12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400800" y="1386000"/>
              <a:ext cx="0" cy="251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0440" y="1386000"/>
              <a:ext cx="1600200" cy="251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00800" y="1386000"/>
              <a:ext cx="1600200" cy="251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00800" y="1386000"/>
              <a:ext cx="2362320" cy="121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8680" y="2604960"/>
              <a:ext cx="3124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638680" y="1386000"/>
              <a:ext cx="2362320" cy="121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001000" y="1386000"/>
              <a:ext cx="0" cy="251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638680" y="2604960"/>
              <a:ext cx="2362320" cy="12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34320" y="13860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8305560" y="1918800"/>
              <a:ext cx="15228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8305560" y="3062160"/>
              <a:ext cx="2286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7009920" y="390060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6019560" y="3214800"/>
              <a:ext cx="15228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6019560" y="1766880"/>
              <a:ext cx="15228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7314840" y="1842840"/>
              <a:ext cx="15228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67480" y="26049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7238880" y="3290760"/>
              <a:ext cx="22860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315200" y="2833560"/>
              <a:ext cx="15228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01000" y="260496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flipV="1">
              <a:off x="6476760" y="3062160"/>
              <a:ext cx="22860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00800" y="268128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6552720" y="1995480"/>
              <a:ext cx="22860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48520" y="10954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848720" y="1095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763120" y="2467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848720" y="3838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248520" y="3900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34120" y="24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400800" y="140004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01000" y="1400040"/>
              <a:ext cx="76212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8000640" y="2619360"/>
              <a:ext cx="76212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400440" y="391464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flipV="1">
              <a:off x="5638320" y="2543040"/>
              <a:ext cx="76212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5638680" y="1399680"/>
              <a:ext cx="762120" cy="114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6933960" y="2771640"/>
              <a:ext cx="15228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940360" y="549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支球队比赛结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13716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001000" y="1371600"/>
            <a:ext cx="0" cy="2514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6443280" y="38606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5651640" y="2565360"/>
            <a:ext cx="761760" cy="1371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372360" y="1341360"/>
            <a:ext cx="2361960" cy="1219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4716360" y="4797360"/>
            <a:ext cx="2133720" cy="520560"/>
            <a:chOff x="4716360" y="4797360"/>
            <a:chExt cx="2133720" cy="520560"/>
          </a:xfrm>
        </p:grpSpPr>
        <p:sp>
          <p:nvSpPr>
            <p:cNvPr id="428" name=""/>
            <p:cNvSpPr/>
            <p:nvPr/>
          </p:nvSpPr>
          <p:spPr>
            <a:xfrm>
              <a:off x="5097600" y="4797360"/>
              <a:ext cx="17524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无法排名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716360" y="4873320"/>
              <a:ext cx="228600" cy="3812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7885080" y="4797360"/>
            <a:ext cx="102384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D2ECB-FA18-4998-A4A5-86CC0F3C4F5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1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1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1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72" dur="1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75" dur="10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0" dur="10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1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华文仿宋"/>
                <a:ea typeface="华文仿宋"/>
              </a:rPr>
              <a:t>       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方法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计算得分：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队胜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场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, 3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队各胜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场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4, 5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队各胜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场，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队胜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场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4 </a:t>
            </a:r>
            <a:r>
              <a:rPr b="1" lang="zh-CN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循环比赛的结果——竞赛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每对顶点间都有边相连的有向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564000" y="2060640"/>
            <a:ext cx="4103280" cy="609480"/>
            <a:chOff x="3564000" y="2060640"/>
            <a:chExt cx="4103280" cy="609480"/>
          </a:xfrm>
        </p:grpSpPr>
        <p:sp>
          <p:nvSpPr>
            <p:cNvPr id="434" name=""/>
            <p:cNvSpPr/>
            <p:nvPr/>
          </p:nvSpPr>
          <p:spPr>
            <a:xfrm>
              <a:off x="3564000" y="2060640"/>
              <a:ext cx="250920" cy="609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982320" y="2060640"/>
              <a:ext cx="36849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排名 </a:t>
              </a: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132456 </a:t>
              </a: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合理吗？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8028000" y="404640"/>
            <a:ext cx="871560" cy="1295640"/>
          </a:xfrm>
          <a:prstGeom prst="rect">
            <a:avLst/>
          </a:prstGeom>
          <a:ln w="0">
            <a:noFill/>
          </a:ln>
        </p:spPr>
      </p:pic>
      <p:grpSp>
        <p:nvGrpSpPr>
          <p:cNvPr id="437" name=""/>
          <p:cNvGrpSpPr/>
          <p:nvPr/>
        </p:nvGrpSpPr>
        <p:grpSpPr>
          <a:xfrm>
            <a:off x="539640" y="3860640"/>
            <a:ext cx="1968120" cy="1907280"/>
            <a:chOff x="539640" y="3860640"/>
            <a:chExt cx="1968120" cy="1907280"/>
          </a:xfrm>
        </p:grpSpPr>
        <p:grpSp>
          <p:nvGrpSpPr>
            <p:cNvPr id="438" name=""/>
            <p:cNvGrpSpPr/>
            <p:nvPr/>
          </p:nvGrpSpPr>
          <p:grpSpPr>
            <a:xfrm>
              <a:off x="539640" y="3860640"/>
              <a:ext cx="1968120" cy="1754280"/>
              <a:chOff x="539640" y="3860640"/>
              <a:chExt cx="1968120" cy="1754280"/>
            </a:xfrm>
          </p:grpSpPr>
          <p:sp>
            <p:nvSpPr>
              <p:cNvPr id="439" name=""/>
              <p:cNvSpPr/>
              <p:nvPr/>
            </p:nvSpPr>
            <p:spPr>
              <a:xfrm>
                <a:off x="793440" y="4165560"/>
                <a:ext cx="1333440" cy="1218960"/>
              </a:xfrm>
              <a:prstGeom prst="triangle">
                <a:avLst>
                  <a:gd name="adj" fmla="val 523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491840" y="4241520"/>
                <a:ext cx="0" cy="762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793440" y="5003640"/>
                <a:ext cx="69804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491840" y="5003640"/>
                <a:ext cx="63504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365120" y="3860640"/>
                <a:ext cx="44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491840" y="4698720"/>
                <a:ext cx="317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126880" y="5232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39640" y="5246640"/>
                <a:ext cx="50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 flipH="1">
              <a:off x="1110960" y="4546440"/>
              <a:ext cx="19044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746360" y="4622760"/>
              <a:ext cx="19044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492200" y="43941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1111320" y="5003640"/>
              <a:ext cx="38088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492200" y="5003640"/>
              <a:ext cx="3175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1365120" y="5384880"/>
              <a:ext cx="25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65120" y="5460840"/>
              <a:ext cx="5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(1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2627280" y="3789360"/>
            <a:ext cx="1968120" cy="1907280"/>
            <a:chOff x="2627280" y="3789360"/>
            <a:chExt cx="1968120" cy="1907280"/>
          </a:xfrm>
        </p:grpSpPr>
        <p:grpSp>
          <p:nvGrpSpPr>
            <p:cNvPr id="455" name=""/>
            <p:cNvGrpSpPr/>
            <p:nvPr/>
          </p:nvGrpSpPr>
          <p:grpSpPr>
            <a:xfrm>
              <a:off x="2627280" y="3789360"/>
              <a:ext cx="1968120" cy="1754280"/>
              <a:chOff x="2627280" y="3789360"/>
              <a:chExt cx="1968120" cy="1754280"/>
            </a:xfrm>
          </p:grpSpPr>
          <p:sp>
            <p:nvSpPr>
              <p:cNvPr id="456" name=""/>
              <p:cNvSpPr/>
              <p:nvPr/>
            </p:nvSpPr>
            <p:spPr>
              <a:xfrm>
                <a:off x="2881080" y="4094280"/>
                <a:ext cx="1333440" cy="1218960"/>
              </a:xfrm>
              <a:prstGeom prst="triangle">
                <a:avLst>
                  <a:gd name="adj" fmla="val 523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579480" y="4170240"/>
                <a:ext cx="0" cy="762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2881080" y="4932360"/>
                <a:ext cx="69804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579480" y="4932360"/>
                <a:ext cx="63504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452760" y="3789360"/>
                <a:ext cx="44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579480" y="4627440"/>
                <a:ext cx="317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214520" y="51609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627280" y="5175360"/>
                <a:ext cx="50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 flipH="1">
              <a:off x="3262320" y="4932360"/>
              <a:ext cx="31752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79840" y="4932360"/>
              <a:ext cx="3175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3452760" y="5313600"/>
              <a:ext cx="317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3579840" y="455148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3135600" y="4551120"/>
              <a:ext cx="19044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06920" y="4399200"/>
              <a:ext cx="25416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52760" y="5389560"/>
              <a:ext cx="4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(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4643280" y="3716280"/>
            <a:ext cx="1968120" cy="1907280"/>
            <a:chOff x="4643280" y="3716280"/>
            <a:chExt cx="1968120" cy="1907280"/>
          </a:xfrm>
        </p:grpSpPr>
        <p:grpSp>
          <p:nvGrpSpPr>
            <p:cNvPr id="472" name=""/>
            <p:cNvGrpSpPr/>
            <p:nvPr/>
          </p:nvGrpSpPr>
          <p:grpSpPr>
            <a:xfrm>
              <a:off x="4643280" y="3716280"/>
              <a:ext cx="1968120" cy="1754280"/>
              <a:chOff x="4643280" y="3716280"/>
              <a:chExt cx="1968120" cy="1754280"/>
            </a:xfrm>
          </p:grpSpPr>
          <p:sp>
            <p:nvSpPr>
              <p:cNvPr id="473" name=""/>
              <p:cNvSpPr/>
              <p:nvPr/>
            </p:nvSpPr>
            <p:spPr>
              <a:xfrm>
                <a:off x="4897080" y="4021200"/>
                <a:ext cx="1333440" cy="1218960"/>
              </a:xfrm>
              <a:prstGeom prst="triangle">
                <a:avLst>
                  <a:gd name="adj" fmla="val 523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595480" y="4097160"/>
                <a:ext cx="0" cy="762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>
                <a:off x="4897080" y="4859280"/>
                <a:ext cx="69804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595480" y="4859280"/>
                <a:ext cx="63504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468760" y="3716280"/>
                <a:ext cx="44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595480" y="4554360"/>
                <a:ext cx="317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230520" y="50878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643280" y="5102280"/>
                <a:ext cx="50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 flipV="1">
              <a:off x="5151240" y="4478040"/>
              <a:ext cx="19044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86280" y="4402080"/>
              <a:ext cx="19044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95840" y="42498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5151240" y="4935240"/>
              <a:ext cx="25380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404680" y="524052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flipV="1">
              <a:off x="5722560" y="4935240"/>
              <a:ext cx="25416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468760" y="5316480"/>
              <a:ext cx="46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(3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6877080" y="3645000"/>
            <a:ext cx="1968480" cy="1906920"/>
            <a:chOff x="6877080" y="3645000"/>
            <a:chExt cx="1968480" cy="1906920"/>
          </a:xfrm>
        </p:grpSpPr>
        <p:sp>
          <p:nvSpPr>
            <p:cNvPr id="489" name=""/>
            <p:cNvSpPr/>
            <p:nvPr/>
          </p:nvSpPr>
          <p:spPr>
            <a:xfrm>
              <a:off x="7131240" y="3949560"/>
              <a:ext cx="1333440" cy="1218960"/>
            </a:xfrm>
            <a:prstGeom prst="triangle">
              <a:avLst>
                <a:gd name="adj" fmla="val 52380"/>
              </a:avLst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29640" y="4025880"/>
              <a:ext cx="0" cy="761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7131240" y="4787640"/>
              <a:ext cx="698400" cy="380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829640" y="4787640"/>
              <a:ext cx="635040" cy="380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702560" y="3645000"/>
              <a:ext cx="44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829640" y="4483080"/>
              <a:ext cx="3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464680" y="5016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77080" y="503064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829640" y="4178160"/>
              <a:ext cx="0" cy="3045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7385040" y="4406760"/>
              <a:ext cx="190440" cy="3045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083440" y="4406760"/>
              <a:ext cx="190800" cy="3805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7639200" y="5168880"/>
              <a:ext cx="3175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385040" y="4863960"/>
              <a:ext cx="317520" cy="151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9640" y="4787640"/>
              <a:ext cx="380880" cy="2282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02560" y="5244840"/>
              <a:ext cx="44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(4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0" y="5661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名次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{1,2,3,4}           {2,(1,3,4)}          {(1,3,4),2}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{(1,2),(3,4)}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E3EFB-89E6-47FF-BF2E-E2E264C0414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6" dur="indefinite" restart="never" nodeType="tmRoot">
          <p:childTnLst>
            <p:seq>
              <p:cTn id="1617" dur="indefinite" nodeType="mainSeq">
                <p:childTnLst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10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0" dur="10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3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10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3" dur="100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0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5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双向连通竞赛图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G=(V,E)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名次排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邻接矩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得分向量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 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, s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, </a:t>
            </a:r>
            <a:r>
              <a:rPr b="1" i="1" lang="zh-CN" sz="28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n</a:t>
            </a:r>
            <a:r>
              <a:rPr b="1" i="1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  <a:ea typeface="华文仿宋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  <a:ea typeface="华文仿宋"/>
              </a:rPr>
              <a:t>                    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 = A</a:t>
            </a:r>
            <a:r>
              <a:rPr b="1" i="1" lang="zh-CN" sz="2800" spc="-1" strike="noStrike">
                <a:solidFill>
                  <a:srgbClr val="ffffff"/>
                </a:solidFill>
                <a:latin typeface="Garamond"/>
              </a:rPr>
              <a:t>·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 ,   e 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1,1, </a:t>
            </a:r>
            <a:r>
              <a:rPr b="1" i="1" lang="zh-CN" sz="28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 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  <a:ea typeface="华文仿宋"/>
              </a:rPr>
              <a:t>(1)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A</a:t>
            </a:r>
            <a:r>
              <a:rPr b="1" i="1" lang="zh-CN" sz="2800" spc="-1" strike="noStrike">
                <a:solidFill>
                  <a:srgbClr val="ffffff"/>
                </a:solidFill>
                <a:latin typeface="Garamond"/>
              </a:rPr>
              <a:t>·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 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2,2,1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一级得分向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 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  <a:ea typeface="华文仿宋"/>
              </a:rPr>
              <a:t>(2)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A</a:t>
            </a:r>
            <a:r>
              <a:rPr b="1" i="1" lang="zh-CN" sz="2800" spc="-1" strike="noStrike">
                <a:solidFill>
                  <a:srgbClr val="ffffff"/>
                </a:solidFill>
                <a:latin typeface="Garamond"/>
              </a:rPr>
              <a:t>·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 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  <a:ea typeface="华文仿宋"/>
              </a:rPr>
              <a:t>(1)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3,2,1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</a:rPr>
              <a:t>T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二级得分向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6804000" y="549360"/>
            <a:ext cx="2112480" cy="2125440"/>
            <a:chOff x="6804000" y="549360"/>
            <a:chExt cx="2112480" cy="2125440"/>
          </a:xfrm>
        </p:grpSpPr>
        <p:sp>
          <p:nvSpPr>
            <p:cNvPr id="508" name=""/>
            <p:cNvSpPr/>
            <p:nvPr/>
          </p:nvSpPr>
          <p:spPr>
            <a:xfrm>
              <a:off x="7076520" y="895680"/>
              <a:ext cx="1431000" cy="1385640"/>
            </a:xfrm>
            <a:prstGeom prst="triangle">
              <a:avLst>
                <a:gd name="adj" fmla="val 52380"/>
              </a:avLst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826400" y="982440"/>
              <a:ext cx="0" cy="8654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076520" y="1847880"/>
              <a:ext cx="749520" cy="4330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826400" y="1848240"/>
              <a:ext cx="681480" cy="4330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689960" y="549360"/>
              <a:ext cx="4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826400" y="1502280"/>
              <a:ext cx="34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507880" y="2108160"/>
              <a:ext cx="4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04000" y="212436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826400" y="1155600"/>
              <a:ext cx="0" cy="3463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7349040" y="1415520"/>
              <a:ext cx="204120" cy="3463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098560" y="1415520"/>
              <a:ext cx="204480" cy="4327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7621920" y="2281680"/>
              <a:ext cx="3405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7349040" y="1935000"/>
              <a:ext cx="340560" cy="172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826400" y="1848240"/>
              <a:ext cx="408600" cy="2595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689960" y="2367720"/>
              <a:ext cx="47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(4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23" name=""/>
          <p:cNvGraphicFramePr/>
          <p:nvPr/>
        </p:nvGraphicFramePr>
        <p:xfrm>
          <a:off x="2340000" y="1268280"/>
          <a:ext cx="3527280" cy="18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268280"/>
                    <a:ext cx="3527280" cy="18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E581B-3636-480D-B50D-C89F39984D2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6" dur="indefinite" restart="never" nodeType="tmRoot">
          <p:childTnLst>
            <p:seq>
              <p:cTn id="1667" dur="indefinite" nodeType="mainSeq">
                <p:childTnLst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72" dur="1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83" dur="10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8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93" dur="1000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98" dur="10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03" dur="1000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08" dur="1000"/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7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k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级得分向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矩阵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最大特征根为正单根</a:t>
            </a:r>
            <a:r>
              <a:rPr b="1" i="1" lang="zh-CN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对应正特征向量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s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且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对竞赛图（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排名为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{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3 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3276720" y="344520"/>
          <a:ext cx="2879640" cy="56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44520"/>
                    <a:ext cx="287964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348000" y="1197000"/>
                <a:ext cx="2808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→</m:t>
                    </m:r>
                    <m:r>
                      <m:t xml:space="preserve">∞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30" name=""/>
          <p:cNvGraphicFramePr/>
          <p:nvPr/>
        </p:nvGraphicFramePr>
        <p:xfrm>
          <a:off x="3419640" y="2852640"/>
          <a:ext cx="295272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2852640"/>
                    <a:ext cx="29527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2" name=""/>
          <p:cNvGrpSpPr/>
          <p:nvPr/>
        </p:nvGrpSpPr>
        <p:grpSpPr>
          <a:xfrm>
            <a:off x="2916360" y="4221000"/>
            <a:ext cx="5039640" cy="1028520"/>
            <a:chOff x="2916360" y="4221000"/>
            <a:chExt cx="5039640" cy="1028520"/>
          </a:xfrm>
        </p:grpSpPr>
        <p:graphicFrame>
          <p:nvGraphicFramePr>
            <p:cNvPr id="533" name=""/>
            <p:cNvGraphicFramePr/>
            <p:nvPr/>
          </p:nvGraphicFramePr>
          <p:xfrm>
            <a:off x="3715560" y="4221000"/>
            <a:ext cx="4240440" cy="1028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15560" y="4221000"/>
                      <a:ext cx="424044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5" name=""/>
            <p:cNvSpPr/>
            <p:nvPr/>
          </p:nvSpPr>
          <p:spPr>
            <a:xfrm>
              <a:off x="2916360" y="4440240"/>
              <a:ext cx="179280" cy="5317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24000" y="57340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7"/>
          <a:stretch/>
        </p:blipFill>
        <p:spPr>
          <a:xfrm>
            <a:off x="8028000" y="404640"/>
            <a:ext cx="871560" cy="12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2EFEE-0AA9-4D7F-BBC0-55E7D1D35AE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9" dur="indefinite" restart="never" nodeType="tmRoot">
          <p:childTnLst>
            <p:seq>
              <p:cTn id="1710" dur="indefinite" nodeType="mainSeq">
                <p:childTnLst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15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0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5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0" dur="10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5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40" dur="10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45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5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4" dur="1000"/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0" y="33300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回到循环比赛问题，其邻接矩阵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1979640" y="836640"/>
          <a:ext cx="4608360" cy="22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36640"/>
                    <a:ext cx="46083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1332000" y="3284640"/>
          <a:ext cx="640872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3284640"/>
                    <a:ext cx="64087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988920" y="4653000"/>
          <a:ext cx="709452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88920" y="4653000"/>
                    <a:ext cx="70945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"/>
          <p:cNvSpPr/>
          <p:nvPr/>
        </p:nvSpPr>
        <p:spPr>
          <a:xfrm>
            <a:off x="1835280" y="5516640"/>
            <a:ext cx="53337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排名次序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{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6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48E48-0570-47A2-96AF-53384DFA8E2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5" dur="indefinite" restart="never" nodeType="tmRoot">
          <p:childTnLst>
            <p:seq>
              <p:cTn id="1756" dur="indefinite" nodeType="mainSeq">
                <p:childTnLst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0" y="2492280"/>
            <a:ext cx="91440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cc00"/>
                </a:solidFill>
                <a:latin typeface="华文行楷"/>
                <a:ea typeface="华文行楷"/>
              </a:rPr>
              <a:t>   </a:t>
            </a:r>
            <a:r>
              <a:rPr b="0" i="1" lang="zh-CN" sz="10000" spc="-1" strike="noStrike">
                <a:solidFill>
                  <a:srgbClr val="ffcc00"/>
                </a:solidFill>
                <a:latin typeface="华文行楷"/>
                <a:ea typeface="华文行楷"/>
              </a:rPr>
              <a:t>Thanks!</a:t>
            </a:r>
            <a:r>
              <a:rPr b="0" lang="zh-CN" sz="10000" spc="-1" strike="noStrike">
                <a:solidFill>
                  <a:srgbClr val="ffcc00"/>
                </a:solidFill>
                <a:latin typeface="华文行楷"/>
                <a:ea typeface="华文行楷"/>
              </a:rPr>
              <a:t> </a:t>
            </a:r>
            <a:endParaRPr b="0" lang="en-US" sz="10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3C9F0-90D0-4CC2-8C3F-3D8337E2FCD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fill="hold">
                      <p:stCondLst>
                        <p:cond delay="0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4" dur="2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建立网络模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结点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表示第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年开始时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购买一套设备，结点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为虚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设结点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用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p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表示第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年的购买费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表示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个使用年限的维修费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弧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(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,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的长度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d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为第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年的购买费与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j - i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年里的维修费之和，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求①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⑥的最短路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5148360" cy="3240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154240" y="4508640"/>
          <a:ext cx="3252960" cy="10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54240" y="4508640"/>
                    <a:ext cx="32529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6F96B-C1D1-4694-92F4-DB3CC406A6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8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9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7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  <a:ea typeface="华文仿宋"/>
              </a:rPr>
              <a:t>Dijkstra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  <a:ea typeface="华文仿宋"/>
              </a:rPr>
              <a:t>算法——标号法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为了简便，将图改为完全图，令虚设的弧的长度为∞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 ( </a:t>
            </a:r>
            <a:r>
              <a:rPr b="1" i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</a:t>
            </a:r>
            <a:r>
              <a:rPr b="1" i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——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第 </a:t>
            </a:r>
            <a:r>
              <a:rPr b="1" i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个点的临时标号。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P( </a:t>
            </a:r>
            <a:r>
              <a:rPr b="1" i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——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第 </a:t>
            </a:r>
            <a:r>
              <a:rPr b="1" i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个点的永久标号，表示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1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1" i="1" lang="zh-CN" sz="2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的最短路长。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</a:t>
            </a:r>
            <a:r>
              <a:rPr b="1" lang="zh-CN" sz="2600" spc="-1" strike="noStrike">
                <a:solidFill>
                  <a:srgbClr val="ffcc00"/>
                </a:solidFill>
                <a:latin typeface="Garamond"/>
                <a:ea typeface="华文仿宋"/>
              </a:rPr>
              <a:t>基本思想：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从起点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</a:t>
            </a:r>
            <a:r>
              <a:rPr b="1" i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沿一切可能的弧派遣使者，这些使者均以相同的速度匀速前进，最早有使者到达的顶点作上记号（临时标号），记下历经的路的长度，然后从这点沿所有可能的弧再派出使者，这些使者与原来尚未到达顶点的使者一起以相同速度匀速前进，…，重复以上过程，直到有人到达终点为止。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9BE8F-56B6-420F-BCCE-EA8B029C67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4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cc00"/>
                </a:solidFill>
                <a:latin typeface="Garamond"/>
                <a:ea typeface="华文仿宋"/>
              </a:rPr>
              <a:t>         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  <a:ea typeface="华文仿宋"/>
              </a:rPr>
              <a:t>算法步骤：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zh-CN" sz="2600" spc="-1" strike="noStrike" u="sng">
                <a:solidFill>
                  <a:srgbClr val="ffffff"/>
                </a:solidFill>
                <a:uFillTx/>
                <a:latin typeface="Times New Roman"/>
              </a:rPr>
              <a:t>Step 1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令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P(1)=T(1)=0,  T( j )=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</a:rPr>
              <a:t>∞,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j = 2,3, 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</a:rPr>
              <a:t>…,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CN" sz="2600" spc="-1" strike="noStrike" u="sng">
                <a:solidFill>
                  <a:srgbClr val="ffffff"/>
                </a:solidFill>
                <a:uFillTx/>
                <a:latin typeface="Times New Roman"/>
              </a:rPr>
              <a:t>Step 2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计算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( j ) =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min {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( j ) , P(1)+d</a:t>
            </a:r>
            <a:r>
              <a:rPr b="1" lang="zh-CN" sz="26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j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},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j =  2,3, 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</a:rPr>
              <a:t>…,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如果结点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临时标号发生了变化，就令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PRIOR( j ) = 1 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600" spc="-1" strike="noStrike" u="sng">
                <a:solidFill>
                  <a:srgbClr val="ffffff"/>
                </a:solidFill>
                <a:uFillTx/>
                <a:latin typeface="Times New Roman"/>
              </a:rPr>
              <a:t>Step 3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在所有临时标号中，取出最小的一个标号（若有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多个，任取其一），改为永久性标号，即若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是临时标号最小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一个结点，则令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P( k )=T( k 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若无临时标号点或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k = N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则转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Step 5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；否则，转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Step 4.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F0F84-3BAE-4956-938B-93C3A185E1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60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600" spc="-1" strike="noStrike" u="sng">
                <a:solidFill>
                  <a:srgbClr val="ffffff"/>
                </a:solidFill>
                <a:uFillTx/>
                <a:latin typeface="Times New Roman"/>
              </a:rPr>
              <a:t>Step 4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设刚获得永久性标号的点为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对每个具有临时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标号的点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计算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      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( j ) =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min {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( j ) , P(k)+d</a:t>
            </a:r>
            <a:r>
              <a:rPr b="1" lang="zh-CN" sz="26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j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}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对于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( j )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发生了变化的每个结点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令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PRIOR( j ) = k 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, 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然后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转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Step 3.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600" spc="-1" strike="noStrike" u="sng">
                <a:solidFill>
                  <a:srgbClr val="ffffff"/>
                </a:solidFill>
                <a:uFillTx/>
                <a:latin typeface="Times New Roman"/>
              </a:rPr>
              <a:t>Step 5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P(N) 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即为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最短路的长。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设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PRIOR( k</a:t>
            </a:r>
            <a:r>
              <a:rPr b="1" lang="zh-CN" sz="2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) = k</a:t>
            </a:r>
            <a:r>
              <a:rPr b="1" lang="zh-CN" sz="2600" spc="-1" strike="noStrike" baseline="-25000">
                <a:solidFill>
                  <a:srgbClr val="ffffff"/>
                </a:solidFill>
                <a:latin typeface="Times New Roman"/>
              </a:rPr>
              <a:t>i-1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,  i=1,2,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…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n;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zh-CN" sz="26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= 1 , k</a:t>
            </a:r>
            <a:r>
              <a:rPr b="1" lang="zh-CN" sz="26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= N,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则最短路径为：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1 =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zh-CN" sz="26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zh-CN" sz="2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zh-CN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→ … →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zh-CN" sz="26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= N.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BBB41-EEC9-4996-B9DD-94B30623A4D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2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5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0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5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8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3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回到例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1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①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(1) = 0 ,  T(j) =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∞,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j = 2,3, …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,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②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T(2) = 0+16 = 16 ,   T(3) = 0+22 = 22 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T(4) = 0+30 = 30,    T(5) = 0+41 = 41 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T(6) = 0+59 = 5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RIOR( j ) = 1 , j = 2,3,4,5,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③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令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(2) = 16 ,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即给结点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永久性标号为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16.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④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(3) = min {T(3) , P(2)+d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2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} = min {22, 16+16} =2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(4) = min {T(4) , P(2)+d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} = min {30, 16+22} = 3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(5) = min {T(5) , P(2)+d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} = min {41, 16+30} =4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(6) = min {T(6) , P(2)+d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} = min {59, 16+41} = 5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只有结点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改变了临时标号，令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RIOR( 6 ) =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98920" y="333360"/>
            <a:ext cx="3745080" cy="23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4C270-3170-4BCB-8B73-9B77975B2CC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0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5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8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1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6" dur="1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9" dur="1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2" dur="10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5" dur="10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1000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2:35:06Z</dcterms:created>
  <dc:creator>wmd</dc:creator>
  <dc:description/>
  <dc:language>en-US</dc:language>
  <cp:lastModifiedBy>秋　风　辞</cp:lastModifiedBy>
  <dcterms:modified xsi:type="dcterms:W3CDTF">2009-03-15T06:54:08Z</dcterms:modified>
  <cp:revision>79</cp:revision>
  <dc:subject/>
  <dc:title>数  学  建  模</dc:title>
</cp:coreProperties>
</file>